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71F-D1FE-4A92-9DCD-FAA0AC0D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8F3-C20A-42E4-AE31-BA878C75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AD4-CD3B-4A0F-AE7E-E251DF88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264-018F-4618-830D-E844C606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A7C3-E610-418B-BEA4-9626C401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506B-01DD-4A49-B5CA-E9D2223D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037-E97B-4A8A-88BA-234C0663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4534-A934-4965-95F5-2185846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F52C-6A65-4476-A6AA-7896258A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1E49-99BF-47F6-8E65-44BA40B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0AEE-428C-42E6-8E6A-364F675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006-8DB6-4B80-948D-1F440266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6029-928D-4031-9446-80970CAF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B4BB-C9E0-49B5-9A18-EAE73161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EA9A-848A-4334-8ABC-BB05C39F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C765-C418-42E4-9B89-D024AAD9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C0E-5BA9-4443-B02B-F2FB9D4D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148-8297-4E52-B6CC-D8820AC9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DB2-314B-46C4-81D0-6FA5B8B6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648-F827-4490-A5D3-415B426D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E61-2E74-46B9-8A82-F05E2946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0B0-1969-4BD4-80D0-5B16D66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5FB-89A1-4580-91A7-9C06373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D5C-D29B-4FB7-B588-686378B6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E68A-3847-4D32-81EB-7EF49A4570C4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B7C3-ABA9-4AD7-8E22-FEE7ACFC2F89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Planejamento de Experimentos: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Confundimento no Fatorial 2</a:t>
            </a:r>
            <a:r>
              <a:rPr b="1" lang="pt-BR" sz="40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002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Sabrina Letícia Couto da Silv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Marília Canabarro Zorda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00400" y="2076480"/>
          <a:ext cx="295920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76480"/>
                    <a:ext cx="29592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365720" y="3125880"/>
            <a:ext cx="179280" cy="19044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68880" y="1981080"/>
            <a:ext cx="179640" cy="19080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5720" y="1981080"/>
            <a:ext cx="179280" cy="190800"/>
          </a:xfrm>
          <a:prstGeom prst="flowChartConnector">
            <a:avLst/>
          </a:prstGeom>
          <a:solidFill>
            <a:srgbClr val="ff99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8880" y="3125880"/>
            <a:ext cx="179640" cy="190440"/>
          </a:xfrm>
          <a:prstGeom prst="flowChartConnector">
            <a:avLst/>
          </a:prstGeom>
          <a:solidFill>
            <a:srgbClr val="ff99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0" y="1981080"/>
            <a:ext cx="999720" cy="864000"/>
            <a:chOff x="6858000" y="1981080"/>
            <a:chExt cx="999720" cy="864000"/>
          </a:xfrm>
        </p:grpSpPr>
        <p:sp>
          <p:nvSpPr>
            <p:cNvPr id="121" name=""/>
            <p:cNvSpPr/>
            <p:nvPr/>
          </p:nvSpPr>
          <p:spPr>
            <a:xfrm>
              <a:off x="6858000" y="2105280"/>
              <a:ext cx="178560" cy="1756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2631960"/>
              <a:ext cx="178560" cy="175680"/>
            </a:xfrm>
            <a:prstGeom prst="flowChartConnector">
              <a:avLst/>
            </a:prstGeom>
            <a:solidFill>
              <a:srgbClr val="ff99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8360" y="198108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99"/>
                  </a:solidFill>
                  <a:latin typeface="Times New Roman"/>
                </a:rPr>
                <a:t>Bloco 1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8360" y="250776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99"/>
                  </a:solidFill>
                  <a:latin typeface="Times New Roman"/>
                </a:rPr>
                <a:t>Bloco 2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77800" y="145908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presentação Geométric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159080"/>
            <a:ext cx="6629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presentação dos Blocos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(Designação das quatro replicações para 2 blocos)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52680" y="5029200"/>
            <a:ext cx="4992480" cy="1143000"/>
            <a:chOff x="3352680" y="5029200"/>
            <a:chExt cx="4992480" cy="1143000"/>
          </a:xfrm>
        </p:grpSpPr>
        <p:grpSp>
          <p:nvGrpSpPr>
            <p:cNvPr id="128" name=""/>
            <p:cNvGrpSpPr/>
            <p:nvPr/>
          </p:nvGrpSpPr>
          <p:grpSpPr>
            <a:xfrm>
              <a:off x="3352680" y="5133960"/>
              <a:ext cx="2209680" cy="961920"/>
              <a:chOff x="3352680" y="5133960"/>
              <a:chExt cx="2209680" cy="961920"/>
            </a:xfrm>
          </p:grpSpPr>
          <p:graphicFrame>
            <p:nvGraphicFramePr>
              <p:cNvPr id="129" name=""/>
              <p:cNvGraphicFramePr/>
              <p:nvPr/>
            </p:nvGraphicFramePr>
            <p:xfrm>
              <a:off x="3352680" y="5133960"/>
              <a:ext cx="990360" cy="9619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52680" y="5133960"/>
                        <a:ext cx="990360" cy="9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" name=""/>
              <p:cNvGraphicFramePr/>
              <p:nvPr/>
            </p:nvGraphicFramePr>
            <p:xfrm>
              <a:off x="4571640" y="5133960"/>
              <a:ext cx="990720" cy="96192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1640" y="5133960"/>
                        <a:ext cx="990720" cy="9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3" name=""/>
            <p:cNvSpPr/>
            <p:nvPr/>
          </p:nvSpPr>
          <p:spPr>
            <a:xfrm>
              <a:off x="5771880" y="540684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6699"/>
                  </a:solidFill>
                  <a:latin typeface="Arial"/>
                </a:rPr>
                <a:t>Ordem randomizada!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5029200"/>
              <a:ext cx="75960" cy="11430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476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24080" y="1752480"/>
            <a:ext cx="5624280" cy="4114440"/>
            <a:chOff x="2224080" y="1752480"/>
            <a:chExt cx="5624280" cy="4114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2318040" y="1752480"/>
                  <a:ext cx="5248080" cy="94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A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a-b-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318040" y="3347280"/>
                  <a:ext cx="5036040" cy="92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B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b-a-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2224080" y="4932720"/>
                  <a:ext cx="5624280" cy="93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AxB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-a-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600200" y="2090880"/>
          <a:ext cx="7467480" cy="331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90880"/>
                    <a:ext cx="746748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Como construir os blocos?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Método de Geometria Finita (Combinação Linear)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14600" y="2514600"/>
                <a:ext cx="4248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736640" y="3429000"/>
            <a:ext cx="740736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Onde: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é o nível do i-ésimo fator que aparece na combinação de tratamento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é a constante do i-ésimo fator no efeito a ser confundido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Para o sistema 2</a:t>
            </a:r>
            <a:r>
              <a:rPr b="0" lang="pt-BR" sz="2100" spc="-1" strike="noStrike" baseline="30000">
                <a:solidFill>
                  <a:srgbClr val="336699"/>
                </a:solidFill>
                <a:latin typeface="Arial"/>
              </a:rPr>
              <a:t>k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, tem-se: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0  ou </a:t>
            </a: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1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e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0 (nível baixo) ou 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1 (nível alto)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9000" y="266688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99"/>
                </a:solidFill>
                <a:latin typeface="Times New Roman"/>
              </a:rPr>
              <a:t>Contraste de Definiçã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7016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: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(Módulo 2)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Blocos com confundimento da interação 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AxB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1 e 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A,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B</a:t>
            </a:r>
            <a:r>
              <a:rPr b="1" lang="pt-BR" sz="1900" spc="-1" strike="noStrike">
                <a:solidFill>
                  <a:srgbClr val="336699"/>
                </a:solidFill>
                <a:latin typeface="Arial"/>
                <a:ea typeface="Times New Roman"/>
              </a:rPr>
              <a:t> (cada um com níveis 0 ou 1)</a:t>
            </a: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mbinação (1) é escrita da forma 0,0 na notação (0,1), assim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 = 0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1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 = 1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 = 1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 = 2 = 0 (módulo 2)         a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43400" y="1295280"/>
                <a:ext cx="312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7848720" cy="1003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510552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48640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79132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617220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4876920"/>
            <a:ext cx="1997280" cy="1313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efefe"/>
              </a:gs>
            </a:gsLst>
            <a:lin ang="5400000"/>
          </a:gra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Valores iguais de L definem os componentes dos blocos!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37016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66ff"/>
                </a:solidFill>
                <a:uFillTx/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S/ Confundimento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           - C/ Confundimento de </a:t>
            </a:r>
            <a:r>
              <a:rPr b="1" lang="pt-BR" sz="2100" spc="-1" strike="noStrike">
                <a:solidFill>
                  <a:srgbClr val="0066ff"/>
                </a:solidFill>
                <a:latin typeface="Arial"/>
              </a:rPr>
              <a:t>AxB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2895480"/>
          <a:ext cx="3124080" cy="27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31240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15000" y="2895480"/>
          <a:ext cx="297180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895480"/>
                    <a:ext cx="29718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(b) Fatorial 2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7315200" cy="277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81080" y="4697280"/>
                <a:ext cx="6553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eito de A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-b+ab-c+ac-bc+a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0052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57400" y="5688000"/>
                <a:ext cx="6019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eito de ABC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+b+c+abc-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b-ac-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400" spc="-1" strike="noStrike" baseline="30000">
                <a:solidFill>
                  <a:srgbClr val="336699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Blocos com confundimento da interação 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AxBxC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 = 1 e 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A,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B e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 C</a:t>
            </a:r>
            <a:r>
              <a:rPr b="1" lang="pt-BR" sz="1900" spc="-1" strike="noStrike">
                <a:solidFill>
                  <a:srgbClr val="336699"/>
                </a:solidFill>
                <a:latin typeface="Arial"/>
                <a:ea typeface="Times New Roman"/>
              </a:rPr>
              <a:t> (cada um com níveis 0 ou 1)</a:t>
            </a: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mbinação (1) é escrita da forma 0,0,0 na notação (0,1), assim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+1(0) = 0 (módulo 2)   (1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+ 1(0) = 1 (módulo 2) 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+ 1(0) = 1 (módulo 2)  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24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05280" y="1287360"/>
                <a:ext cx="4095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09680" y="2498760"/>
            <a:ext cx="8458200" cy="184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19720" y="2468520"/>
            <a:ext cx="9296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74720" y="15238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+1(0) = 2= 0 (módulo 2)  ab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+1(1) = 1 (módulo 2)  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+1(1) = 2= 0 (módulo 2)  a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+1(1) = 2= 0 (módulo 2)  b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+1(1) = 3= 1 (módulo 2)  ab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BLOCO 1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(1), AB, AC e BC (valores ZERO na soma)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BLOCO 2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A, B, C e ABC (valores UM na soma)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66ff"/>
                </a:solidFill>
                <a:uFillTx/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S/ Confundimento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C/ Confundimento de </a:t>
            </a:r>
            <a:r>
              <a:rPr b="1" lang="pt-BR" sz="2100" spc="-1" strike="noStrike">
                <a:solidFill>
                  <a:srgbClr val="0066ff"/>
                </a:solidFill>
                <a:latin typeface="Arial"/>
              </a:rPr>
              <a:t>AxBxC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05120" y="2438280"/>
          <a:ext cx="2763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763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638680" y="2448000"/>
          <a:ext cx="2762280" cy="3724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48000"/>
                    <a:ext cx="2762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Introduç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4360" y="1905120"/>
            <a:ext cx="7164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Há situações em que é impossível realizar todas as repetições num experimento fatorial em um único bloco;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</a:rPr>
              <a:t>CONFUNDIMENTO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é a técnica empregada na organização de delineamentos para experimentos fatoriais, possibilitando obter maior precisão nas comparações mais importantes, pelo sacrifício de outras, menos relevant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159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268280"/>
            <a:ext cx="7522920" cy="26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 u="sng">
                <a:solidFill>
                  <a:srgbClr val="0066ff"/>
                </a:solidFill>
                <a:uFillTx/>
                <a:latin typeface="Arial"/>
              </a:rPr>
              <a:t>Estimativa do Erro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Quando o n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° de fatores é pequeno (k = 2 ou 3), é usual replicar o experimento a fim de obter uma estimativa para o erro.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Por exemplo, suponha que um Fatorial 2</a:t>
            </a:r>
            <a:r>
              <a:rPr b="0" lang="pt-BR" sz="21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3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 seja realizado em 2 blocos com ABC confundida e o experimentador decide replicar o experimento em 4 tempos.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76676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189000"/>
            <a:ext cx="81694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267920"/>
            <a:ext cx="38098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ff"/>
                </a:solidFill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24000" y="2492280"/>
            <a:ext cx="6768720" cy="3097080"/>
            <a:chOff x="2124000" y="2492280"/>
            <a:chExt cx="6768720" cy="309708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2124000" y="2492280"/>
              <a:ext cx="45118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459840" y="2812320"/>
              <a:ext cx="75600" cy="636480"/>
            </a:xfrm>
            <a:custGeom>
              <a:avLst/>
              <a:gdLst>
                <a:gd name="textAreaLeft" fmla="*/ 48240 w 75600"/>
                <a:gd name="textAreaRight" fmla="*/ 75960 w 75600"/>
                <a:gd name="textAreaTop" fmla="*/ 16560 h 636480"/>
                <a:gd name="textAreaBottom" fmla="*/ 619920 h 6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57840" y="2796480"/>
              <a:ext cx="163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BLOCOS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2r – 1= 2x4 - 1=6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382800" y="5190120"/>
              <a:ext cx="608040" cy="136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5960" y="4726080"/>
              <a:ext cx="19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ERRO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6 (r – 1) = 6x3=18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26680" y="5030280"/>
              <a:ext cx="456120" cy="319680"/>
            </a:xfrm>
            <a:prstGeom prst="ellipse">
              <a:avLst/>
            </a:pr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49280" y="2717280"/>
              <a:ext cx="533160" cy="796320"/>
            </a:xfrm>
            <a:prstGeom prst="ellipse">
              <a:avLst/>
            </a:pr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19280" y="1531800"/>
            <a:ext cx="7197840" cy="45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336699"/>
                </a:solidFill>
                <a:uFillTx/>
                <a:latin typeface="Arial"/>
              </a:rPr>
              <a:t>Exemplo</a:t>
            </a: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Uma indústria de refrigerantes está estudando o efeito da porcentagem de gaseificação (Fator A), pressão de operação no enchimento (Fator B) e velocidade da esteira (Fator C), no volume de bebida gaseificada embalada em cada garrafa. Um experimento fatorial com dois níveis de gaseificação, pressão e velocidade, com 2 repetições foi realizad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Na organização do experimento foram definidos blocos de 4 unidades, confundindo a interação ABC nas dua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55240" y="189000"/>
            <a:ext cx="81694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99308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336699"/>
                </a:solidFill>
                <a:latin typeface="Arial"/>
              </a:rPr>
              <a:t>Os dados obtidos foram:</a:t>
            </a: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63640" y="2719440"/>
            <a:ext cx="69120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189000"/>
            <a:ext cx="78850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58064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** significativo a 1%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08000" y="1197000"/>
            <a:ext cx="8388360" cy="3673440"/>
            <a:chOff x="1008000" y="1197000"/>
            <a:chExt cx="8388360" cy="36734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1008000" y="1197000"/>
              <a:ext cx="838836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317080" y="2133360"/>
              <a:ext cx="826920" cy="1081080"/>
            </a:xfrm>
            <a:prstGeom prst="ellipse">
              <a:avLst/>
            </a:prstGeom>
            <a:noFill/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449360" y="5089680"/>
            <a:ext cx="729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Repetições= [62 + 102]/8 – (16)2/16= 1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Blocos = [22 + 42 + 42 + 62]/4 - (16)2/16 = 2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Blocos dentro de Repetições = SQBlocos – SQRepetiçõ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2.00 – 1.00 = 1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1. Confundiment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4720" y="1523520"/>
            <a:ext cx="7088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a) Defini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Quando 2 ou mais efeitos não podem ser estimados independentemente, diz-se que estão confundid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écnica para arranjar um fatorial completo em blocos, onde o tamanho dos blocos é menor do que o n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° de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ratament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b) Tipos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Completo (total)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o mesmo efeito fatorial é confundido  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      em todas a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Parcial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efeitos fatoriais diferentes são confundidos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  nas diferente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74360" y="1676160"/>
            <a:ext cx="7164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c) Vantagens no us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Redução do erro experimental, com uso de blocos homogêne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Eliminação de interações de ordem superior que, em geral, não tem significado prátic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d) Desvantagem no us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Maior complexidade nos cálculos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1. Confundimento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2. Precis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maior precisão decorre, da formação de blocos menores, com 1/2, 1/3 ou 1/4 apenas do n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°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de combinações de tratamentos, de um bloco complet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formação desses blocos incompletos, implica no confundimento através das diferenças entre blocos, de certos efeitos fatoriais, geralmente as interações de ordem mais elevada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74360" y="1752120"/>
            <a:ext cx="6783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escolha da comparação, que deverá ser sacrificada, depende de  considerações de ordem prática.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Em alguns experimentos, a medição da interação é o objetivo principal, existindo pouco interesse na medição dos efeitos principais, portanto, nesses casos, um ou mais efeitos principais poderão ser confundidos.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2. Precis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3. Confundimento no Fatorial 2</a:t>
            </a:r>
            <a:r>
              <a:rPr b="1" lang="pt-BR" sz="4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- Esquemas de confundimento mais simples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- Blocos Incompletos de tamanhos 2, 4, 8, ..., 2</a:t>
            </a:r>
            <a:r>
              <a:rPr b="0" lang="pt-BR" sz="2200" spc="-1" strike="noStrike" baseline="45000">
                <a:solidFill>
                  <a:srgbClr val="336699"/>
                </a:solidFill>
                <a:latin typeface="Arial"/>
                <a:ea typeface="Times New Roman"/>
              </a:rPr>
              <a:t>p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(p&lt;k)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340080"/>
            <a:ext cx="6302160" cy="19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3.1. Confundimento no Fatorial 2</a:t>
            </a:r>
            <a:r>
              <a:rPr b="1" lang="pt-BR" sz="2400" spc="-1" strike="noStrike" u="sng" baseline="30000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k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em 2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2. Confundimento no Fatorial 2</a:t>
            </a:r>
            <a:r>
              <a:rPr b="1" lang="pt-BR" sz="2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m 4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3. Confundimento no Fatorial 2</a:t>
            </a:r>
            <a:r>
              <a:rPr b="1" lang="pt-BR" sz="2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m 2</a:t>
            </a:r>
            <a:r>
              <a:rPr b="1" lang="pt-BR" sz="2400" spc="-1" strike="noStrike" baseline="50000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3520" y="17521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Fatorial 2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2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SITUAÇÃO PROBLEMA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Suponha que tenhamos um delineamento Fatorial 2</a:t>
            </a:r>
            <a:r>
              <a:rPr b="0" lang="pt-BR" sz="22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com 1 repetição e cada combinação de tratamentos (4) requer uma quantidade de matéria-prima, mas cada lote de matéria-prima só é suficiente para testar 2 combinações de tratament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440" y="1600200"/>
            <a:ext cx="746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2 lotes serão necessários para realizar o experimento;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Se os lotes de matéria-prima forem considerados como blocos, devemos classificar 2 das 4 combinações de tratamentos como pertencentes a cada bloc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EXEMPL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733920" y="4648320"/>
          <a:ext cx="25146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648320"/>
                    <a:ext cx="25146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00:27Z</dcterms:created>
  <dc:creator>Sabrina Letícia Couto da Silva</dc:creator>
  <dc:description/>
  <dc:language>en-US</dc:language>
  <cp:lastModifiedBy>Sabrina Letícia Couto da Silva</cp:lastModifiedBy>
  <dcterms:modified xsi:type="dcterms:W3CDTF">2002-09-23T06:45:31Z</dcterms:modified>
  <cp:revision>9</cp:revision>
  <dc:subject/>
  <dc:title>Planejamento de Experimentos:  Confundimento no Fatorial 2k</dc:title>
</cp:coreProperties>
</file>