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7F1D-5C2B-45A9-A4BE-E5A1AABC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95FE-EAC1-4B5A-99B8-004F4F25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DC68-18C1-41CC-B500-53DC42577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567F-592E-4FDE-A069-E7E7B892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BE90-1254-40E6-9013-0BABFC90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8E75-D9DF-46B9-89CC-412DBDCB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314B-686A-408A-850F-FE995DAF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41D1-4EAE-4DE0-88D8-B42DD313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5E75-361F-44CC-AD77-70AD01E3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1600" y="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AA6A-1311-4D38-AE26-1EF7AA20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D3ED-7C7F-4223-B20F-48433003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187A-A1FC-4904-B739-67C4EF98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D092-57F9-4156-A0C4-95C3DF94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6102-E2F6-4B1F-8544-E22D0620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A45E-478B-4C94-8DCB-A33405E9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66CE-1A3D-4292-993B-D3B7B61CA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1B29-757D-40A2-9658-756D89DD0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2414-909B-4878-8A3F-3C3D7913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ED9D-6492-48DB-9D0C-4E28EC1E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4E2E-555C-4DEF-B593-06BCF2DE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600" y="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90F8-4592-417B-BBB2-842342B3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40D2-0A5E-4A52-91F8-6645384E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19A3-5B7E-4B6F-BA01-8F767B7F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40D7-E843-4502-8DC1-5E57350A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1A2C-1ECA-40B9-8701-12E45C7C1227}" type="slidenum"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EC7F-5932-40F0-A82F-09037E62A4F7}" type="slidenum"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10663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imes New Roman"/>
              </a:rPr>
              <a:t>Planejamento de Experimentos:</a:t>
            </a:r>
            <a:br>
              <a:rPr sz="4000"/>
            </a:br>
            <a:br>
              <a:rPr sz="4000"/>
            </a:br>
            <a:r>
              <a:rPr b="1" lang="pt-BR" sz="4000" spc="-1" strike="noStrike">
                <a:solidFill>
                  <a:srgbClr val="0066ff"/>
                </a:solidFill>
                <a:latin typeface="Times New Roman"/>
              </a:rPr>
              <a:t>Confundimento no Fatorial 2</a:t>
            </a:r>
            <a:r>
              <a:rPr b="1" lang="pt-BR" sz="4000" spc="-1" strike="noStrike" baseline="30000">
                <a:solidFill>
                  <a:srgbClr val="0066ff"/>
                </a:solidFill>
                <a:latin typeface="Times New Roman"/>
              </a:rPr>
              <a:t>k</a:t>
            </a:r>
            <a:br>
              <a:rPr sz="4000"/>
            </a:br>
            <a:br>
              <a:rPr sz="4000"/>
            </a:br>
            <a:r>
              <a:rPr b="1" lang="pt-BR" sz="4000" spc="-1" strike="noStrike" u="sng">
                <a:solidFill>
                  <a:srgbClr val="c489ff"/>
                </a:solidFill>
                <a:uFillTx/>
                <a:latin typeface="Times New Roman"/>
              </a:rPr>
              <a:t>Exemplo 8.2 feito no SAS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05120" y="5257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Tahoma"/>
              </a:rPr>
              <a:t>Sabrina Letícia Couto da Silva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Tahoma"/>
              </a:rPr>
              <a:t>Marília Canabarro Zordan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Exemplo 8.2</a:t>
            </a:r>
            <a:br>
              <a:rPr sz="4000"/>
            </a:br>
            <a:r>
              <a:rPr b="1" lang="pt-BR" sz="2300" spc="-1" strike="noStrike">
                <a:solidFill>
                  <a:srgbClr val="336699"/>
                </a:solidFill>
                <a:latin typeface="Times New Roman"/>
              </a:rPr>
              <a:t>(Montgomery, 4a. Edição – págs. 361- 363)</a:t>
            </a:r>
            <a:endParaRPr b="0" lang="en-US" sz="23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440" y="1523880"/>
            <a:ext cx="7316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Considere a situação: (exemplo 7.2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Um produto químico é produzido em um recipiente pressurizado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Um experimento fatorial foi realizado numa planta piloto para estudar os fatores de influência na </a:t>
            </a:r>
            <a:r>
              <a:rPr b="1" lang="pt-BR" sz="2400" spc="-1" strike="noStrike">
                <a:solidFill>
                  <a:srgbClr val="0066ff"/>
                </a:solidFill>
                <a:latin typeface="Arial"/>
              </a:rPr>
              <a:t>taxa de filtração desse produto (var. resposta)</a:t>
            </a: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Os 4 fatores são: temperatura (A), pressão (B), conc. de formaldeído ( C) e taxa de agitação (D)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Cada fator tem 2 níveis. Esse experimento será utilizado para ilustrar as idéias de </a:t>
            </a:r>
            <a:r>
              <a:rPr b="1" i="1" lang="pt-BR" sz="2400" spc="-1" strike="noStrike">
                <a:solidFill>
                  <a:srgbClr val="336699"/>
                </a:solidFill>
                <a:latin typeface="Arial"/>
              </a:rPr>
              <a:t>bloqueamento</a:t>
            </a: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 e </a:t>
            </a:r>
            <a:r>
              <a:rPr b="1" i="1" lang="pt-BR" sz="2400" spc="-1" strike="noStrike">
                <a:solidFill>
                  <a:srgbClr val="336699"/>
                </a:solidFill>
                <a:latin typeface="Arial"/>
              </a:rPr>
              <a:t>confundimento</a:t>
            </a: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 em um experimento sem repetição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Exemplo 8.2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676520" y="1768320"/>
          <a:ext cx="7238880" cy="488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768320"/>
                    <a:ext cx="7238880" cy="488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523520" y="114300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Times New Roman"/>
              </a:rPr>
              <a:t>Dados do exemplo 7.2: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Exemplo 8.2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09480" y="990720"/>
          <a:ext cx="8382240" cy="44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90720"/>
                    <a:ext cx="838224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8458200" y="533520"/>
            <a:ext cx="533520" cy="685800"/>
          </a:xfrm>
          <a:prstGeom prst="downArrow">
            <a:avLst>
              <a:gd name="adj1" fmla="val 50000"/>
              <a:gd name="adj2" fmla="val 32136"/>
            </a:avLst>
          </a:prstGeom>
          <a:solidFill>
            <a:srgbClr val="66cc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5562720"/>
            <a:ext cx="4827240" cy="76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6699"/>
                </a:solidFill>
                <a:latin typeface="Times New Roman"/>
              </a:rPr>
              <a:t>Bloco 1: (1), ab, ac, bc, ad, bd, cd, abcd</a:t>
            </a:r>
            <a:endParaRPr b="0" lang="en-US" sz="2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6699"/>
                </a:solidFill>
                <a:latin typeface="Times New Roman"/>
              </a:rPr>
              <a:t>Bloco 2: a, b, c, d, abc, bcd, acd, abd</a:t>
            </a:r>
            <a:endParaRPr b="0" lang="en-US" sz="22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752480" y="14475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Serão efetuadas 2 modificações no experimento original (exemplo 7.2):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66ff"/>
                </a:solidFill>
                <a:latin typeface="Arial"/>
              </a:rPr>
              <a:t>Primeira Modificação: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66ff"/>
                </a:solidFill>
                <a:latin typeface="Arial"/>
                <a:ea typeface="Arial"/>
              </a:rPr>
              <a:t>	</a:t>
            </a:r>
            <a:r>
              <a:rPr b="1" lang="pt-BR" sz="2200" spc="-1" strike="noStrike">
                <a:solidFill>
                  <a:srgbClr val="0066ff"/>
                </a:solidFill>
                <a:latin typeface="Arial"/>
                <a:ea typeface="Arial"/>
              </a:rPr>
              <a:t>	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Arial"/>
              </a:rPr>
              <a:t>Suponha que as 16 combinações de tratamentos não podem ser todas testadas utilizando o mesmo lote de matéria-prima. O experimentador só pode testar 8 combinações por lote. Sendo assim, um delineamento 2</a:t>
            </a:r>
            <a:r>
              <a:rPr b="0" lang="pt-BR" sz="2200" spc="-1" strike="noStrike" baseline="30000">
                <a:solidFill>
                  <a:srgbClr val="336699"/>
                </a:solidFill>
                <a:latin typeface="Arial"/>
                <a:ea typeface="Arial"/>
              </a:rPr>
              <a:t>4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Arial"/>
              </a:rPr>
              <a:t> em 2 blocos (lotes como blocos) parece adequado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Exemplo 8.2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70160" y="1447560"/>
            <a:ext cx="73166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66ff"/>
                </a:solidFill>
                <a:latin typeface="Arial"/>
              </a:rPr>
              <a:t>Segunda Modificação: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5880"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66ff"/>
                </a:solidFill>
                <a:latin typeface="Arial"/>
                <a:ea typeface="Arial"/>
              </a:rPr>
              <a:t>	</a:t>
            </a:r>
            <a:r>
              <a:rPr b="1" lang="pt-BR" sz="2200" spc="-1" strike="noStrike">
                <a:solidFill>
                  <a:srgbClr val="0066ff"/>
                </a:solidFill>
                <a:latin typeface="Arial"/>
                <a:ea typeface="Arial"/>
              </a:rPr>
              <a:t>	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Arial"/>
              </a:rPr>
              <a:t>Iremos introduzir um efeito de bloco, de modo que essa utilidade do bloqueamento poderá ser demonstrada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35880"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Arial"/>
              </a:rPr>
              <a:t>	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Arial"/>
              </a:rPr>
              <a:t>	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Arial"/>
              </a:rPr>
              <a:t>Vamos supor que ao selecionar 2 lotes de matéria-prima para realizar o experimento um deles é de qualidade muito inferior e como resultado, os tratamentos submetidos a esse lote produzem uma resposta (taxa de filtração) inferior em 20 unidades. O lote de qualidade inferior será o BLOCO1 (Bloco Principal) e o de melhor qualidade será o BLOCO2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Exemplo 8.2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598400" y="1523520"/>
            <a:ext cx="6249960" cy="3812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6699"/>
                </a:solidFill>
                <a:latin typeface="Arial"/>
              </a:rPr>
              <a:t>Blocos formados: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Exemplo 8.2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3048120" cy="2676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523880" y="5029200"/>
            <a:ext cx="76201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Times New Roman"/>
              </a:rPr>
              <a:t>Por exemplo, a resposta original da testemunha (1) era 45, mas como está no Bloco 1, a resposta resultante após o bloqueamento (efeito de bloco) será dada por: </a:t>
            </a:r>
            <a:r>
              <a:rPr b="1" lang="pt-BR" sz="2000" spc="-1" strike="noStrike">
                <a:solidFill>
                  <a:srgbClr val="336699"/>
                </a:solidFill>
                <a:latin typeface="Times New Roman"/>
              </a:rPr>
              <a:t>(1) = 45 – 20 = 25.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Times New Roman"/>
              </a:rPr>
              <a:t>Segue da mesma forma para os demais tratamentos do Bloco 1.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0T19:00:27Z</dcterms:created>
  <dc:creator>Sabrina Letícia Couto da Silva</dc:creator>
  <dc:description/>
  <dc:language>en-US</dc:language>
  <cp:lastModifiedBy>Sabrina Letícia Couto da Silva</cp:lastModifiedBy>
  <dcterms:modified xsi:type="dcterms:W3CDTF">2002-09-28T03:54:51Z</dcterms:modified>
  <cp:revision>10</cp:revision>
  <dc:subject/>
  <dc:title>Planejamento de Experimentos:  Confundimento no Fatorial 2k</dc:title>
</cp:coreProperties>
</file>