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721-1CD5-4C5C-B207-676500AE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3C-8FB8-46AB-BC30-89BBA76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25A-6B91-4D51-8EDE-0F3C2280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954-0E77-4119-8B52-ACE5A32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7A6-8186-4B1F-AFE3-0D34ADAB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CCB5-24D2-41D9-969F-46BA9EC9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6505-670E-489D-BC1A-2378186D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09C8-E54A-4CF0-9CAC-C35C06AF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A6A-C52E-418E-88AA-E88DFFC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D2C4-35A8-489F-89F0-A6186F3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422E-DB43-4186-B170-42938B2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8A7-0129-46A0-8020-04D4D04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EAE2-6841-4774-9ABE-C1F50B25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344A-7B88-47DC-9644-07634CE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5476-B195-444D-846E-E82FD62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C2F3-E4E3-48D1-8A84-6BBD16E2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B220-5227-42B8-961B-7238DF77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8DD-4B78-484E-AC62-07ACE86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B8F-26FD-4038-9BBA-BF72257A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B60-D3F1-47B5-9204-92AFEF7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5D1-E060-40DF-B8F1-90904ED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0D2-AA10-4AC6-8FDD-BC205C8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CE0-9E31-42D8-82B5-D107C43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B8C-4E90-4369-9626-DF8C644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495A-B3D8-4FB0-99FA-81071F37E088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08EA-EF66-48C5-9252-715863EF91C5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0400" y="2076480"/>
          <a:ext cx="295920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76480"/>
                    <a:ext cx="29592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65720" y="3125880"/>
            <a:ext cx="179280" cy="19044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68880" y="1981080"/>
            <a:ext cx="179640" cy="1908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5720" y="1981080"/>
            <a:ext cx="179280" cy="19080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8880" y="3125880"/>
            <a:ext cx="179640" cy="19044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0" y="1981080"/>
            <a:ext cx="999720" cy="864000"/>
            <a:chOff x="6858000" y="1981080"/>
            <a:chExt cx="999720" cy="864000"/>
          </a:xfrm>
        </p:grpSpPr>
        <p:sp>
          <p:nvSpPr>
            <p:cNvPr id="121" name=""/>
            <p:cNvSpPr/>
            <p:nvPr/>
          </p:nvSpPr>
          <p:spPr>
            <a:xfrm>
              <a:off x="6858000" y="2105280"/>
              <a:ext cx="178560" cy="1756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2631960"/>
              <a:ext cx="178560" cy="175680"/>
            </a:xfrm>
            <a:prstGeom prst="flowChartConnector">
              <a:avLst/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8360" y="198108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8360" y="25077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7800" y="14590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Geométric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5908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dos Bloc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Designação das quatro replicações para 2 blocos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2680" y="5029200"/>
            <a:ext cx="4992480" cy="1143000"/>
            <a:chOff x="3352680" y="5029200"/>
            <a:chExt cx="4992480" cy="1143000"/>
          </a:xfrm>
        </p:grpSpPr>
        <p:grpSp>
          <p:nvGrpSpPr>
            <p:cNvPr id="128" name=""/>
            <p:cNvGrpSpPr/>
            <p:nvPr/>
          </p:nvGrpSpPr>
          <p:grpSpPr>
            <a:xfrm>
              <a:off x="3352680" y="5133960"/>
              <a:ext cx="2209680" cy="961920"/>
              <a:chOff x="3352680" y="5133960"/>
              <a:chExt cx="2209680" cy="96192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3352680" y="5133960"/>
              <a:ext cx="990360" cy="9619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52680" y="5133960"/>
                        <a:ext cx="99036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" name=""/>
              <p:cNvGraphicFramePr/>
              <p:nvPr/>
            </p:nvGraphicFramePr>
            <p:xfrm>
              <a:off x="4571640" y="5133960"/>
              <a:ext cx="990720" cy="96192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1640" y="5133960"/>
                        <a:ext cx="99072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3" name=""/>
            <p:cNvSpPr/>
            <p:nvPr/>
          </p:nvSpPr>
          <p:spPr>
            <a:xfrm>
              <a:off x="5771880" y="540684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6699"/>
                  </a:solidFill>
                  <a:latin typeface="Arial"/>
                </a:rPr>
                <a:t>Ordem randomizada!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5029200"/>
              <a:ext cx="75960" cy="11430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47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24080" y="1752480"/>
            <a:ext cx="5624280" cy="4114440"/>
            <a:chOff x="2224080" y="1752480"/>
            <a:chExt cx="5624280" cy="4114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318040" y="1752480"/>
                  <a:ext cx="5248080" cy="94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a-b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18040" y="3347280"/>
                  <a:ext cx="5036040" cy="92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b-a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224080" y="4932720"/>
                  <a:ext cx="5624280" cy="93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x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-a-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2090880"/>
          <a:ext cx="746748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90880"/>
                    <a:ext cx="746748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Como construir os blocos?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Método de Geometria Finita (Combinação Linear)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2514600"/>
                <a:ext cx="4248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736640" y="3429000"/>
            <a:ext cx="74073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Ond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o nível do i-ésimo fator que aparece na combinação de tratament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a constante do i-ésimo fator no efeito a ser confundid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Para o sistema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</a:rPr>
              <a:t>k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, tem-s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 ou </a:t>
            </a: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(nível baixo) ou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 (nível alto)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266688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99"/>
                </a:solidFill>
                <a:latin typeface="Times New Roman"/>
              </a:rPr>
              <a:t>Contraste de Definiçã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016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Módulo 2)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 = 0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 = 2 = 0 (módulo 2)         a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1295280"/>
                <a:ext cx="312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784872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4864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7913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61722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876920"/>
            <a:ext cx="1997280" cy="131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efefe"/>
              </a:gs>
            </a:gsLst>
            <a:lin ang="5400000"/>
          </a:gra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Valores iguais de L definem os componentes dos blocos!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70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           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2895480"/>
          <a:ext cx="312408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31240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15000" y="2895480"/>
          <a:ext cx="297180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29718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(b) 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31520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4697280"/>
                <a:ext cx="6553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-b+ab-c+ac-bc+a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0052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57400" y="5688000"/>
                <a:ext cx="6019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BC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+b+c+abc-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b-ac-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4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xC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 = 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 e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C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0) = 0 (módulo 2)   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 1(0) = 1 (módulo 2) 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 1(0) = 1 (módulo 2)  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4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5280" y="1287360"/>
                <a:ext cx="4095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09680" y="2498760"/>
            <a:ext cx="8458200" cy="184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9720" y="2468520"/>
            <a:ext cx="9296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7472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0) = 2= 0 (módulo 2)  ab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1) = 1 (módulo 2)  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1(1) = 2= 0 (módulo 2)  a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1(1) = 2= 0 (módulo 2)  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1) = 3= 1 (módulo 2)  a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1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(1), AB, AC e BC (valores ZERO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2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A, B, C e ABC (valores UM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xC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2438280"/>
          <a:ext cx="2763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76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2448000"/>
          <a:ext cx="2762280" cy="372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48000"/>
                    <a:ext cx="276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Introduç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4360" y="1905120"/>
            <a:ext cx="7164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Há situações em que é impossível realizar todas as repetições num experimento fatorial em um único bloc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</a:rPr>
              <a:t>CONFUNDIMENTO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é a técnica empregada na organização de delineamentos para experimentos fatoriais, possibilitando obter maior precisão nas comparações mais importantes, pelo sacrifício de outras, menos relevant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268280"/>
            <a:ext cx="752292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 u="sng">
                <a:solidFill>
                  <a:srgbClr val="0066ff"/>
                </a:solidFill>
                <a:uFillTx/>
                <a:latin typeface="Arial"/>
              </a:rPr>
              <a:t>Estimativa do Erro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Quando o n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° de fatores é pequeno (k = 2 ou 3), é usual replicar o experimento a fim de obter uma estimativa para o erro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Por exemplo, suponha que um Fatorial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3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 seja realizado em 2 blocos com ABC confundida e o experimentador decide replicar o experimento em 4 tempos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766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26792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ff"/>
                </a:solidFill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24000" y="2492280"/>
            <a:ext cx="6768720" cy="3097080"/>
            <a:chOff x="2124000" y="2492280"/>
            <a:chExt cx="6768720" cy="309708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2124000" y="2492280"/>
              <a:ext cx="4511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459840" y="2812320"/>
              <a:ext cx="75600" cy="6364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16560 h 636480"/>
                <a:gd name="textAreaBottom" fmla="*/ 61992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7840" y="2796480"/>
              <a:ext cx="163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BLOCOS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2r – 1= 2x4 - 1=6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382800" y="5190120"/>
              <a:ext cx="608040" cy="13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5960" y="4726080"/>
              <a:ext cx="19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ERR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6 (r – 1) = 6x3=18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6680" y="5030280"/>
              <a:ext cx="456120" cy="31968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9280" y="2717280"/>
              <a:ext cx="533160" cy="79632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19280" y="1531800"/>
            <a:ext cx="7197840" cy="45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6699"/>
                </a:solidFill>
                <a:uFillTx/>
                <a:latin typeface="Arial"/>
              </a:rPr>
              <a:t>Exemplo</a:t>
            </a: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Uma indústria de refrigerantes está estudando o efeito da porcentagem de gaseificação (Fator A), pressão de operação no enchimento (Fator B) e velocidade da esteira (Fator C), no volume de bebida gaseificada embalada em cada garrafa. Um experimento fatorial com dois níveis de gaseificação, pressão e velocidade, com 2 repetições foi realiz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Na organização do experimento foram definidos blocos de 4 unidades, confundindo a interação ABC nas du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99308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336699"/>
                </a:solidFill>
                <a:latin typeface="Arial"/>
              </a:rPr>
              <a:t>Os dados obtidos foram: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63640" y="2719440"/>
            <a:ext cx="6912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89000"/>
            <a:ext cx="78850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580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** significativo a 1%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08000" y="1197000"/>
            <a:ext cx="8388360" cy="3673440"/>
            <a:chOff x="1008000" y="1197000"/>
            <a:chExt cx="8388360" cy="36734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008000" y="1197000"/>
              <a:ext cx="838836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17080" y="2133360"/>
              <a:ext cx="826920" cy="1081080"/>
            </a:xfrm>
            <a:prstGeom prst="ellipse">
              <a:avLst/>
            </a:prstGeom>
            <a:noFill/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49360" y="5089680"/>
            <a:ext cx="729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Repetições= [62 + 102]/8 – (16)2/16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= [22 + 42 + 42 + 62]/4 - (16)2/16 = 2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dentro de Repetições = SQBlocos – SQRepetiçõ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.00 – 1.00 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252360" y="33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fundimento Fatorial 2</a:t>
            </a:r>
            <a:r>
              <a:rPr b="1" lang="pt-BR" sz="24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484280"/>
            <a:ext cx="8424720" cy="34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Método 1 (Contrastes)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e um Efeito Fatorial, reduzindo o tamanho do bloco a ½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e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utro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efeito fatorial reduzindo o tamanho do bloco a ¼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ff"/>
                </a:solidFill>
                <a:uFillTx/>
                <a:latin typeface="Arial"/>
              </a:rPr>
              <a:t>Cuidado!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Na escolha dos efeitos pode provocar o confundimento de um terceiro efeito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404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2200" y="1252440"/>
            <a:ext cx="8281800" cy="37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000" spc="-1" strike="noStrike" baseline="40000">
                <a:solidFill>
                  <a:srgbClr val="336699"/>
                </a:solidFill>
                <a:latin typeface="Arial"/>
              </a:rPr>
              <a:t>3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( 8 tratamentos) : confunde o  1° efeito  fatori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 blocos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1)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Confundindo AxBxC para se ter blocos com 4 tratamen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419640" y="1809720"/>
          <a:ext cx="2016000" cy="395280"/>
        </p:xfrm>
        <a:graphic>
          <a:graphicData uri="http://schemas.openxmlformats.org/drawingml/2006/table">
            <a:tbl>
              <a:tblPr/>
              <a:tblGrid>
                <a:gridCol w="593640"/>
                <a:gridCol w="750960"/>
                <a:gridCol w="671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08000" y="3933720"/>
          <a:ext cx="6840360" cy="1236600"/>
        </p:xfrm>
        <a:graphic>
          <a:graphicData uri="http://schemas.openxmlformats.org/drawingml/2006/table">
            <a:tbl>
              <a:tblPr/>
              <a:tblGrid>
                <a:gridCol w="839520"/>
                <a:gridCol w="843120"/>
                <a:gridCol w="839880"/>
                <a:gridCol w="841320"/>
                <a:gridCol w="1131840"/>
                <a:gridCol w="585720"/>
                <a:gridCol w="587520"/>
                <a:gridCol w="585720"/>
                <a:gridCol w="585720"/>
              </a:tblGrid>
              <a:tr h="758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50920" y="223920"/>
          <a:ext cx="8569080" cy="5025960"/>
        </p:xfrm>
        <a:graphic>
          <a:graphicData uri="http://schemas.openxmlformats.org/drawingml/2006/table">
            <a:tbl>
              <a:tblPr/>
              <a:tblGrid>
                <a:gridCol w="2198520"/>
                <a:gridCol w="795240"/>
                <a:gridCol w="797040"/>
                <a:gridCol w="795240"/>
                <a:gridCol w="797040"/>
                <a:gridCol w="797040"/>
                <a:gridCol w="796680"/>
                <a:gridCol w="655920"/>
                <a:gridCol w="93636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ombinação d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feito Fatorial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ratamento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-108000" y="544500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B...K = (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 (b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...(k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 que não entrar na interação recebe “+”, o que entrar “-”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(a-1)(b+1)(c+1) = (ab + a – b – 1)(c + 1) = abc + ab + ac + a – bc – b – c – 1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44280"/>
            <a:ext cx="8280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indo um 2° efeito fatori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2)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nfundindo AxB para se ter blocos  com 2 tratamentos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484360" y="563400"/>
          <a:ext cx="4537080" cy="13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63400"/>
                    <a:ext cx="4537080" cy="13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11280" y="2349360"/>
          <a:ext cx="7489800" cy="2944800"/>
        </p:xfrm>
        <a:graphic>
          <a:graphicData uri="http://schemas.openxmlformats.org/drawingml/2006/table">
            <a:tbl>
              <a:tblPr/>
              <a:tblGrid>
                <a:gridCol w="734760"/>
                <a:gridCol w="514440"/>
                <a:gridCol w="488880"/>
                <a:gridCol w="757440"/>
                <a:gridCol w="623880"/>
                <a:gridCol w="627120"/>
                <a:gridCol w="623880"/>
                <a:gridCol w="623880"/>
                <a:gridCol w="623880"/>
                <a:gridCol w="623880"/>
                <a:gridCol w="623880"/>
                <a:gridCol w="6238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1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2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3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2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x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x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79280" y="5430960"/>
            <a:ext cx="864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indo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x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/ ½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nfundindo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/ ¼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rincipal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também está confundi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x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X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549360"/>
            <a:ext cx="842472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étodo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° Escolher DOIS efeitos para gerar os bloc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or exemplo, para 2</a:t>
            </a:r>
            <a:r>
              <a:rPr b="1" lang="pt-BR" sz="2000" spc="-1" strike="noStrike" baseline="30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confundir: ADE e BCE 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Dx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X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BxCx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BCD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° Construir o bloco principal através das rela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L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0 , 1 (módulo 2)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L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0 , 1 (módulo 2)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3° Usar a propriedade do bloco principal para construir os demais bloc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4720" y="1523520"/>
            <a:ext cx="7088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a) Defini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 de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b) Tip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ompleto (total)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o mesmo efeito fatorial é confundido  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    em todas 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Parcial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efeitos fatoriais diferentes são confundidos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nas diferente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95280" y="1052640"/>
          <a:ext cx="8424720" cy="439236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0,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,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0,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,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1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3280" y="260280"/>
            <a:ext cx="88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Confundimento no Fatorial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em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blocos de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k-p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elementos </a:t>
            </a:r>
            <a:endParaRPr b="0" lang="en-US" sz="2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0526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° Escolher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efeitos para gerar os blocos, automaticamente confundidos com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1" lang="pt-BR" sz="2000" spc="-1" strike="noStrike" baseline="30000">
                <a:solidFill>
                  <a:srgbClr val="0000ff"/>
                </a:solidFill>
                <a:latin typeface="Arial"/>
              </a:rPr>
              <a:t>p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- p - 1)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interações generalizada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° Construir o bloco principal ( aquele que contém o tratamento (1)) através das relações de definição L1, L2, ..., Lp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3° Usar propriedades do bloco principal para construir os demais bloco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br>
              <a:rPr sz="4000"/>
            </a:br>
            <a:br>
              <a:rPr sz="4000"/>
            </a:br>
            <a:r>
              <a:rPr b="1" lang="pt-BR" sz="4000" spc="-1" strike="noStrike" u="sng">
                <a:solidFill>
                  <a:srgbClr val="c489ff"/>
                </a:solidFill>
                <a:uFillTx/>
                <a:latin typeface="Times New Roman"/>
              </a:rPr>
              <a:t>Exemplo 8.2 feito no 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90512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br>
              <a:rPr sz="4000"/>
            </a:br>
            <a:r>
              <a:rPr b="1" lang="pt-BR" sz="2300" spc="-1" strike="noStrike">
                <a:solidFill>
                  <a:srgbClr val="336699"/>
                </a:solidFill>
                <a:latin typeface="Times New Roman"/>
              </a:rPr>
              <a:t>(Montgomery, 4a. Edição – págs. 361- 363)</a:t>
            </a:r>
            <a:endParaRPr b="0" lang="en-US" sz="23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440" y="1523880"/>
            <a:ext cx="7316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idere a situação: (exemplo 7.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produto químico é produzido em um recipiente pressurizad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experimento fatorial foi realizado numa planta piloto para estudar os fatores de influência na </a:t>
            </a: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taxa de filtração desse produto (var. resposta)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Os 4 fatores são: temperatura (A), pressão (B), conc. de formaldeído ( C) e taxa de agitação (D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da fator tem 2 níveis. Esse experimento será utilizado para ilustrar as idéias d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bloquea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confundi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m um experimento sem repetiçã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768320"/>
          <a:ext cx="7238880" cy="488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68320"/>
                    <a:ext cx="7238880" cy="48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523520" y="11430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Times New Roman"/>
              </a:rPr>
              <a:t>Dados do exemplo 7.2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990720"/>
          <a:ext cx="83822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3822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8458200" y="5335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5562720"/>
            <a:ext cx="482724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1: (1), ab, ac, bc, ad, bd, cd, abc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2: a, b, c, d, abc, bcd, acd, ab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52480" y="14475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rão efetuadas 2 modificações no experimento original (exemplo 7.2)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Primeir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Suponha que as 16 combinações de tratamentos não podem ser todas testadas utilizando o mesmo lote de matéria-prima. O experimentador só pode testar 8 combinações por lote. Sendo assim, um delineamento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4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 em 2 blocos (lotes como blocos) parece adequ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0160" y="1447560"/>
            <a:ext cx="7316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Segund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Iremos introduzir um efeito de bloco, de modo que essa utilidade do bloqueamento poderá ser demonstr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Vamos supor que ao selecionar 2 lotes de matéria-prima para realizar o experimento um deles é de qualidade muito inferior e como resultado, os tratamentos submetidos a esse lote produzem uma resposta (taxa de filtração) inferior em 20 unidades. O lote de qualidade inferior será o BLOCO1 (Bloco Principal) e o de melhor qualidade será o BLOCO2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98400" y="1523520"/>
            <a:ext cx="6249960" cy="38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Blocos formad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048120" cy="2676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23880" y="502920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Por exemplo, a resposta original da testemunha (1) era 45, mas como está no Bloco 1, a resposta resultante após o bloqueamento (efeito de bloco) será dada por: </a:t>
            </a:r>
            <a:r>
              <a:rPr b="1" lang="pt-BR" sz="2000" spc="-1" strike="noStrike">
                <a:solidFill>
                  <a:srgbClr val="336699"/>
                </a:solidFill>
                <a:latin typeface="Times New Roman"/>
              </a:rPr>
              <a:t>(1) = 45 – 20 = 25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Segue da mesma forma para os demais tratamentos do Bloco 1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920" y="333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Confundimento Parcial – 2</a:t>
            </a:r>
            <a:r>
              <a:rPr b="0" lang="pt-BR" sz="3200" spc="-1" strike="noStrike" baseline="30000">
                <a:solidFill>
                  <a:srgbClr val="ff0066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989000"/>
            <a:ext cx="8280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99"/>
                </a:solidFill>
                <a:latin typeface="Arial"/>
              </a:rPr>
              <a:t>Definição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Quando várias repetições são usadas, e quando em todas as repetições, é confundida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sempre a  mesma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mparação, dizemos que o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confundimento é total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Quando há repetições, existe a possibilidade de se usar o  confundimento parcial, que consiste em cada repetição, confundir um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efeito fatorial diferente.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4360" y="1676160"/>
            <a:ext cx="7164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) Vantagens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Redução do erro experimental, com uso de blocos homogêne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liminação de interações de ordem superior que, em geral, não tem significado práti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d) Desvantagem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Maior complexidade nos cálculos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1197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No fatorial 2</a:t>
            </a:r>
            <a:r>
              <a:rPr b="1" lang="pt-BR" sz="20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usando-se 4 repetições pode-se confundir, ABC na 1ª, AB na 2ª, AC  na 3ª e BC na 4ª, e assim teríamos o seguinte esquema: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4000" y="2421000"/>
          <a:ext cx="8424720" cy="1245960"/>
        </p:xfrm>
        <a:graphic>
          <a:graphicData uri="http://schemas.openxmlformats.org/drawingml/2006/table">
            <a:tbl>
              <a:tblPr/>
              <a:tblGrid>
                <a:gridCol w="645120"/>
                <a:gridCol w="393840"/>
                <a:gridCol w="507600"/>
                <a:gridCol w="506160"/>
                <a:gridCol w="261360"/>
                <a:gridCol w="522000"/>
                <a:gridCol w="463320"/>
                <a:gridCol w="430560"/>
                <a:gridCol w="502920"/>
                <a:gridCol w="216000"/>
                <a:gridCol w="607320"/>
                <a:gridCol w="430560"/>
                <a:gridCol w="501480"/>
                <a:gridCol w="502920"/>
                <a:gridCol w="181800"/>
                <a:gridCol w="202680"/>
                <a:gridCol w="261000"/>
                <a:gridCol w="275400"/>
                <a:gridCol w="506160"/>
                <a:gridCol w="506520"/>
              </a:tblGrid>
              <a:tr h="4597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24000" y="4149720"/>
          <a:ext cx="8351640" cy="1246320"/>
        </p:xfrm>
        <a:graphic>
          <a:graphicData uri="http://schemas.openxmlformats.org/drawingml/2006/table">
            <a:tbl>
              <a:tblPr/>
              <a:tblGrid>
                <a:gridCol w="574560"/>
                <a:gridCol w="460440"/>
                <a:gridCol w="503280"/>
                <a:gridCol w="502920"/>
                <a:gridCol w="260640"/>
                <a:gridCol w="260280"/>
                <a:gridCol w="258840"/>
                <a:gridCol w="274680"/>
                <a:gridCol w="502920"/>
                <a:gridCol w="503280"/>
                <a:gridCol w="260640"/>
                <a:gridCol w="518760"/>
                <a:gridCol w="270000"/>
                <a:gridCol w="500040"/>
                <a:gridCol w="635040"/>
                <a:gridCol w="260280"/>
                <a:gridCol w="260280"/>
                <a:gridCol w="258840"/>
                <a:gridCol w="273240"/>
                <a:gridCol w="504720"/>
                <a:gridCol w="507960"/>
              </a:tblGrid>
              <a:tr h="4597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I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V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6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8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189000"/>
            <a:ext cx="842472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osição dos blocos  dentro da repetição e os tratamentos dentro dos blocos incompletos = SORTEI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Os efeitos A, B e C são totalmente  livres do efeito de blocos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Na repetição I, ABC é totalmente confundida com blocos, mas nas repetições II, III e IV, é ortogonal a blocos. Assim sendo, a estimativa dentro do bloco, para ABC, pode ser obtida das repetições II, III e IV, o mesmo acontecendo com AB, nas repetições I, III e IV, AC em I, II e IV e BC em I, II e III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Uma estimativa, livre do efeito de blocos, ainda pode ser obtida para cada efeito confundido, somente baseada em um nº menor de repetiçõe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A, B e C = 4 repeti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ABC, AB, AC e BC = 3 repeti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Os efeitos parcialmente confundidos, são estimados com menor precisão em relação aos demais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3640" y="2089080"/>
            <a:ext cx="143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7 </a:t>
            </a:r>
            <a:r>
              <a:rPr b="0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2r-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7 </a:t>
            </a:r>
            <a:r>
              <a:rPr b="0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995640" y="4508640"/>
                <a:ext cx="1513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57" name=""/>
          <p:cNvGraphicFramePr/>
          <p:nvPr/>
        </p:nvGraphicFramePr>
        <p:xfrm>
          <a:off x="684360" y="1700280"/>
          <a:ext cx="7561080" cy="4129200"/>
        </p:xfrm>
        <a:graphic>
          <a:graphicData uri="http://schemas.openxmlformats.org/drawingml/2006/table">
            <a:tbl>
              <a:tblPr/>
              <a:tblGrid>
                <a:gridCol w="2376360"/>
                <a:gridCol w="518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ausas da Variação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G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s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rro Experimen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755640" y="76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ANO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62164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1’ = parcialmente confundidos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feitos Fatoriai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4360" y="1206360"/>
                <a:ext cx="882036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QA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B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 r=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A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SQB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QAB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</m:t>
                        </m:r>
                        <m:r>
                          <m:rPr>
                            <m:lit/>
                            <m:nor/>
                          </m:rPr>
                          <m:t xml:space="preserve"> r=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539640" y="424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Q Blocos, SQ Total  e SQ Erro Experimental, são obtidas de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maneira análoga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ao confundimento total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xemplo Básic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836640"/>
            <a:ext cx="860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siderando o uso de blocos de 4 unidades confundindo-se a interação ABC na repetição 1 e AB na repetição 2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2394000"/>
          <a:ext cx="3887640" cy="1971720"/>
        </p:xfrm>
        <a:graphic>
          <a:graphicData uri="http://schemas.openxmlformats.org/drawingml/2006/table">
            <a:tbl>
              <a:tblPr/>
              <a:tblGrid>
                <a:gridCol w="1143000"/>
                <a:gridCol w="1809720"/>
                <a:gridCol w="93492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= -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 =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etição I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 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 =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ABC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 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 =6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427640" y="2349360"/>
          <a:ext cx="4105080" cy="2016360"/>
        </p:xfrm>
        <a:graphic>
          <a:graphicData uri="http://schemas.openxmlformats.org/drawingml/2006/table">
            <a:tbl>
              <a:tblPr/>
              <a:tblGrid>
                <a:gridCol w="1152360"/>
                <a:gridCol w="2087640"/>
                <a:gridCol w="86508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 =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etição II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 =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AB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  = 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324000" y="333360"/>
          <a:ext cx="8424720" cy="5983200"/>
        </p:xfrm>
        <a:graphic>
          <a:graphicData uri="http://schemas.openxmlformats.org/drawingml/2006/table">
            <a:tbl>
              <a:tblPr/>
              <a:tblGrid>
                <a:gridCol w="3274920"/>
                <a:gridCol w="1549440"/>
                <a:gridCol w="1368360"/>
                <a:gridCol w="136836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Fonte de Variaçã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Soma de Quadrado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Graus de Liberda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Quadrado Médi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pt-BR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õ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s dentro de Repetiçõ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Percentagem de Gaseificação (A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6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6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48.00</a:t>
                      </a: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Pressão (B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7.00</a:t>
                      </a: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Velocidade da Esteira (C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6.33</a:t>
                      </a: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(repetição 1 somente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(repetição 2 somente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rr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.7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78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maior precisão decorre, da formação de blocos menores, com 1/2, 1/3 ou 1/4 apenas d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de combinações de tratamentos, de um bloco complet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formação desses blocos incompletos, implica no confundimento através das diferenças entre blocos, de certos efeitos fatoriais, geralmente as interações de ordem mais elev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4360" y="1752120"/>
            <a:ext cx="6783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escolha da comparação, que deverá ser sacrificada, depende de  considerações de ordem prática.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m alguns experimentos, a medição da interação é o objetivo principal, existindo pouco interesse na medição dos efeitos principais, portanto, nesses casos, um ou mais efeitos principais poderão ser confundidos.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3. Confundimento no Fatorial 2</a:t>
            </a:r>
            <a:r>
              <a:rPr b="1" lang="pt-BR" sz="4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Esquemas de confundimento mais simple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Blocos Incompletos de tamanhos 2, 4, 8, ..., 2</a:t>
            </a:r>
            <a:r>
              <a:rPr b="0" lang="pt-BR" sz="2200" spc="-1" strike="noStrike" baseline="45000">
                <a:solidFill>
                  <a:srgbClr val="336699"/>
                </a:solidFill>
                <a:latin typeface="Arial"/>
                <a:ea typeface="Times New Roman"/>
              </a:rPr>
              <a:t>p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p&lt;k)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340080"/>
            <a:ext cx="630216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3.1. Confundimento no Fatorial 2</a:t>
            </a:r>
            <a:r>
              <a:rPr b="1" lang="pt-BR" sz="2400" spc="-1" strike="noStrike" u="sng" baseline="30000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k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em 2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2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3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2</a:t>
            </a:r>
            <a:r>
              <a:rPr b="1" lang="pt-BR" sz="2400" spc="-1" strike="noStrike" baseline="50000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ITUAÇÃO PROBLEMA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uponha que tenhamos um delineamento Fatorial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m 1 repetição e cada combinação de tratamentos (4) requer uma quantidade de matéria-prima, mas cada lote de matéria-prima só é suficiente para testar 2 combinações de 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440" y="1600200"/>
            <a:ext cx="746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2 lotes serão necessários para realizar o experiment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 os lotes de matéria-prima forem considerados como blocos, devemos classificar 2 das 4 combinações de tratamentos como pertencentes a cada blo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4648320"/>
          <a:ext cx="25146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648320"/>
                    <a:ext cx="25146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Marilia</cp:lastModifiedBy>
  <dcterms:modified xsi:type="dcterms:W3CDTF">2005-09-28T23:24:31Z</dcterms:modified>
  <cp:revision>10</cp:revision>
  <dc:subject/>
  <dc:title>Planejamento de Experimentos:  Confundimento no Fatorial 2k</dc:title>
</cp:coreProperties>
</file>