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521-4FFF-43FC-AAE7-61B6C66D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7737-C264-42F7-9858-375D2443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6D7-E458-42F6-9E37-AC5640AF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5D2-0B71-432B-965D-F2DB2A41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F903-CBFF-4924-958A-D395EA7E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367-4D5A-41E1-84E8-D1CE80D6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85F-05D3-440E-98C9-3DB03654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A20-4040-492A-A5B3-517748DB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26E-EEA3-4920-AA04-10354830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AEC1-549B-4E29-930A-9419F160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FDB2-656A-46FB-B3B1-4A7FA275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BE5-9068-4306-A3FB-C9310AEC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6644-2685-4574-9506-F567A5CE4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136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Arial"/>
              </a:rPr>
              <a:t>PROJETO E ANÁLISE DE EXPERIMEN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480060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SCELINO ZEMIAC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RICIA 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Exemplo de projeto fato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50288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 = temperatura (baixa / al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 = pressão (baixa / al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7800" y="1066680"/>
            <a:ext cx="5371920" cy="2959200"/>
            <a:chOff x="307800" y="1066680"/>
            <a:chExt cx="5371920" cy="2959200"/>
          </a:xfrm>
        </p:grpSpPr>
        <p:sp>
          <p:nvSpPr>
            <p:cNvPr id="159" name=""/>
            <p:cNvSpPr/>
            <p:nvPr/>
          </p:nvSpPr>
          <p:spPr>
            <a:xfrm>
              <a:off x="1857600" y="2147760"/>
              <a:ext cx="1861920" cy="8845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bf7ff"/>
                  </a:solidFill>
                  <a:latin typeface="Arial"/>
                </a:rPr>
                <a:t>Process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bf7ff"/>
                  </a:solidFill>
                  <a:latin typeface="Arial"/>
                </a:rPr>
                <a:t>quími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1120" y="2563920"/>
              <a:ext cx="930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18160" y="2563920"/>
              <a:ext cx="931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7800" y="1828800"/>
              <a:ext cx="138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stânc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ím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42080" y="266688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dução d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30440" y="1679400"/>
              <a:ext cx="0" cy="363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74960" y="1679400"/>
              <a:ext cx="0" cy="363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35680" y="1327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30960" y="1327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03080" y="1066680"/>
              <a:ext cx="22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fatores controlávei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200320" y="3135240"/>
              <a:ext cx="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592360" y="3135240"/>
              <a:ext cx="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230640" y="3135240"/>
              <a:ext cx="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40680" y="3222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80480" y="365760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variações do 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105520" y="3809880"/>
            <a:ext cx="2594880" cy="2628000"/>
            <a:chOff x="5105520" y="3809880"/>
            <a:chExt cx="2594880" cy="2628000"/>
          </a:xfrm>
        </p:grpSpPr>
        <p:sp>
          <p:nvSpPr>
            <p:cNvPr id="175" name=""/>
            <p:cNvSpPr/>
            <p:nvPr/>
          </p:nvSpPr>
          <p:spPr>
            <a:xfrm flipV="1">
              <a:off x="5105520" y="392076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05520" y="59022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68160" y="3809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17000" y="5978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05520" y="4606560"/>
              <a:ext cx="2133720" cy="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05520" y="5368680"/>
              <a:ext cx="2133720" cy="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715000" y="4225320"/>
              <a:ext cx="0" cy="167652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6782040" y="4225320"/>
              <a:ext cx="0" cy="167652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86560" y="456876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3880" y="456876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43880" y="532116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77200" y="533052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Exemplo de projeto fato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67652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2000"/>
          </a:bodyPr>
          <a:p>
            <a:pPr lvl="1" marL="163440" indent="-6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or A: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 velocidade da CPU n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440" indent="-6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(25 MIPS  /  40 MI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440" indent="-6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or B: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 velocidade da CPU na estação de trabal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440" indent="-6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(1 MIPS  /  2 MI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440" indent="-6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or C: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 número de estações de trabal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440" indent="-6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(20 / 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440" indent="-6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or D: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 número de discos n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440" indent="-6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(1  / 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440" indent="-6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440" indent="-6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sta (y):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empo de resposta do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Exemplo de projeto fato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43000" y="1219320"/>
            <a:ext cx="6553080" cy="3433680"/>
            <a:chOff x="1143000" y="1219320"/>
            <a:chExt cx="6553080" cy="3433680"/>
          </a:xfrm>
        </p:grpSpPr>
        <p:sp>
          <p:nvSpPr>
            <p:cNvPr id="191" name=""/>
            <p:cNvSpPr/>
            <p:nvPr/>
          </p:nvSpPr>
          <p:spPr>
            <a:xfrm>
              <a:off x="1514520" y="2809800"/>
              <a:ext cx="1404720" cy="133200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1514520" y="2204640"/>
              <a:ext cx="893880" cy="6066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917800" y="2204640"/>
              <a:ext cx="893880" cy="6066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2917800" y="3537000"/>
              <a:ext cx="893880" cy="6048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514520" y="3537000"/>
              <a:ext cx="893880" cy="60480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08400" y="2205000"/>
              <a:ext cx="0" cy="133200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08400" y="3537000"/>
              <a:ext cx="1403280" cy="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08400" y="2205000"/>
              <a:ext cx="1403280" cy="18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809880" y="2205000"/>
              <a:ext cx="1800" cy="13320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27720" y="1219320"/>
              <a:ext cx="3092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38560" y="3276720"/>
              <a:ext cx="3081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43000" y="3236760"/>
              <a:ext cx="3096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31000" y="4243320"/>
              <a:ext cx="3697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04920" y="4181400"/>
              <a:ext cx="37008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07200" y="3881520"/>
              <a:ext cx="3747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27560" y="3757680"/>
              <a:ext cx="3762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67000" y="4065480"/>
              <a:ext cx="128520" cy="1224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67000" y="2735280"/>
              <a:ext cx="128520" cy="1206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60520" y="2155680"/>
              <a:ext cx="128520" cy="1209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41840" y="2155680"/>
              <a:ext cx="128520" cy="1209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28880" y="3465360"/>
              <a:ext cx="127080" cy="1224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65600" y="4044960"/>
              <a:ext cx="126720" cy="1224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46480" y="3465360"/>
              <a:ext cx="128520" cy="122400"/>
            </a:xfrm>
            <a:prstGeom prst="ellipse">
              <a:avLst/>
            </a:prstGeom>
            <a:solidFill>
              <a:srgbClr val="00ffff"/>
            </a:solidFill>
            <a:ln w="64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38600" y="2760840"/>
              <a:ext cx="128520" cy="1206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42040" y="2867040"/>
              <a:ext cx="1403280" cy="133200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342040" y="2262240"/>
              <a:ext cx="893520" cy="6062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743880" y="2262240"/>
              <a:ext cx="893520" cy="6062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743880" y="3594240"/>
              <a:ext cx="893520" cy="6062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342040" y="3594240"/>
              <a:ext cx="893520" cy="60624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34120" y="2262240"/>
              <a:ext cx="1440" cy="133200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34120" y="3594240"/>
              <a:ext cx="1403280" cy="144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34120" y="2262240"/>
              <a:ext cx="1403280" cy="14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7637400" y="2262240"/>
              <a:ext cx="0" cy="13320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92720" y="4122720"/>
              <a:ext cx="128520" cy="1224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92720" y="2792520"/>
              <a:ext cx="128520" cy="1220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86600" y="2212920"/>
              <a:ext cx="128520" cy="1206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67560" y="2212920"/>
              <a:ext cx="128520" cy="1206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54960" y="3524400"/>
              <a:ext cx="128520" cy="1206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1320" y="4102200"/>
              <a:ext cx="128520" cy="1220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72200" y="3524400"/>
              <a:ext cx="128520" cy="120600"/>
            </a:xfrm>
            <a:prstGeom prst="ellipse">
              <a:avLst/>
            </a:prstGeom>
            <a:solidFill>
              <a:srgbClr val="00ffff"/>
            </a:solidFill>
            <a:ln w="64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64320" y="2817720"/>
              <a:ext cx="128520" cy="1224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743200" y="1582200"/>
              <a:ext cx="0" cy="8478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43200" y="1582560"/>
              <a:ext cx="3825720" cy="18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68920" y="1582560"/>
              <a:ext cx="0" cy="9684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766880" y="4670280"/>
            <a:ext cx="685800" cy="1752840"/>
          </a:xfrm>
          <a:prstGeom prst="borderCallout2">
            <a:avLst>
              <a:gd name="adj1" fmla="val 18750"/>
              <a:gd name="adj2" fmla="val -8333"/>
              <a:gd name="adj3" fmla="val 7157"/>
              <a:gd name="adj4" fmla="val -25462"/>
              <a:gd name="adj5" fmla="val -20199"/>
              <a:gd name="adj6" fmla="val -400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90760" y="4746600"/>
            <a:ext cx="685800" cy="1676520"/>
          </a:xfrm>
          <a:prstGeom prst="borderCallout2">
            <a:avLst>
              <a:gd name="adj1" fmla="val 18750"/>
              <a:gd name="adj2" fmla="val -8333"/>
              <a:gd name="adj3" fmla="val 7481"/>
              <a:gd name="adj4" fmla="val -31018"/>
              <a:gd name="adj5" fmla="val -25662"/>
              <a:gd name="adj6" fmla="val -51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Efeito de um f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7360" y="3860640"/>
            <a:ext cx="39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feitos principais (fatores com 2 níveis)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472428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96720" y="44956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+ 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54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01480" y="44956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+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5940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85840" y="468936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3080" y="1905120"/>
            <a:ext cx="3275640" cy="1938600"/>
            <a:chOff x="4573080" y="1905120"/>
            <a:chExt cx="3275640" cy="1938600"/>
          </a:xfrm>
        </p:grpSpPr>
        <p:sp>
          <p:nvSpPr>
            <p:cNvPr id="249" name=""/>
            <p:cNvSpPr/>
            <p:nvPr/>
          </p:nvSpPr>
          <p:spPr>
            <a:xfrm>
              <a:off x="6399360" y="2790000"/>
              <a:ext cx="693000" cy="4953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55720" y="2790000"/>
              <a:ext cx="693000" cy="4953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55720" y="3340800"/>
              <a:ext cx="693000" cy="4953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99360" y="3340800"/>
              <a:ext cx="693000" cy="4953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25000" y="28944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2080" y="28944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82080" y="34448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25000" y="34448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25360" y="2399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82440" y="23990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3080" y="3115800"/>
              <a:ext cx="112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tor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89440" y="1905120"/>
              <a:ext cx="110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tor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59440" y="3388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59440" y="28933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04920" y="137160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 efeito de um fator é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lteração média na resposta produz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r uma mudança no nível do f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6720" y="54864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+ 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5428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160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1480" y="54864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+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940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85840" y="568008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573408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8120" y="2590920"/>
            <a:ext cx="8380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62520" y="2590920"/>
            <a:ext cx="8380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3352680"/>
            <a:ext cx="8380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8120" y="3352680"/>
            <a:ext cx="8380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0184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1624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624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184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1640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1604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022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16240" y="1981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21480" y="297180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o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8520" y="1600200"/>
            <a:ext cx="125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or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8720" y="457200"/>
            <a:ext cx="845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Fatores com efeitos aditivos (sem interação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105520" y="3505320"/>
          <a:ext cx="3582720" cy="23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505320"/>
                    <a:ext cx="3582720" cy="23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6158160" y="568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560" y="571500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926840" y="4876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926480" y="388620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362320" y="228600"/>
            <a:ext cx="487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</a:rPr>
              <a:t>Interação entre fat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91080" y="4508640"/>
            <a:ext cx="3102120" cy="785520"/>
            <a:chOff x="5491080" y="4508640"/>
            <a:chExt cx="3102120" cy="785520"/>
          </a:xfrm>
        </p:grpSpPr>
        <p:sp>
          <p:nvSpPr>
            <p:cNvPr id="296" name=""/>
            <p:cNvSpPr/>
            <p:nvPr/>
          </p:nvSpPr>
          <p:spPr>
            <a:xfrm>
              <a:off x="54910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24560" y="528804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594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9260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260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595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926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26160" y="528804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610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9420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276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611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942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277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626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96160" y="52880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292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627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58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293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642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97760" y="52880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308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643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974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309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64440" y="528804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99360" y="52880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324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659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90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325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66040" y="52880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00960" y="52880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340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675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006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341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676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025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356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691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022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9357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692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041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372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707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04240" y="52880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1373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1708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203960" y="5288040"/>
              <a:ext cx="129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388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723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05840" y="52880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389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724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055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404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739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07440" y="52880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405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740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071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6420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6755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09040" y="52880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421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7756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087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42240" y="528804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8771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106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437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9772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103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438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787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1122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1453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1788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119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2454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803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138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3469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804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413920" y="52880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4470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4819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5154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5485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820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910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24560" y="489600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594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9260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260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595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926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726160" y="489600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610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420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276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611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942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277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626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96160" y="489600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292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627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958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293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642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97760" y="489600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308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643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2974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309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64440" y="489600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99360" y="489600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324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659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990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325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66040" y="489600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00960" y="489600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6340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675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06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341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676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025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356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8691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022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357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9692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041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372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07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04240" y="489600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373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708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203960" y="4896000"/>
              <a:ext cx="129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2388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2723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05840" y="489600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389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724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055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404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739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07440" y="489600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405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740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071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420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755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09040" y="489600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421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756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8087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42240" y="489600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771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9106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9437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9772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0103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438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0787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1122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1453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1788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119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2454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803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138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469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4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13920" y="489600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4470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819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5154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5485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5820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4910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24560" y="450864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594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9260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260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95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926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26160" y="450864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610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9420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276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11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942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277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491080" y="3724200"/>
            <a:ext cx="3102120" cy="790560"/>
            <a:chOff x="5491080" y="3724200"/>
            <a:chExt cx="3102120" cy="790560"/>
          </a:xfrm>
        </p:grpSpPr>
        <p:sp>
          <p:nvSpPr>
            <p:cNvPr id="497" name=""/>
            <p:cNvSpPr/>
            <p:nvPr/>
          </p:nvSpPr>
          <p:spPr>
            <a:xfrm>
              <a:off x="59626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996160" y="45086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0292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627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958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1293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642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197760" y="45086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308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643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974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3309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64440" y="450864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99360" y="45086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324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659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990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5325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66040" y="45086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00960" y="45086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6340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6675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7006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341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676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025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356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691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022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57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692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0041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372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707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04240" y="45086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373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708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203960" y="4508640"/>
              <a:ext cx="129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388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723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05840" y="45086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389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724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055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404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739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07440" y="45086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5405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740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6071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6420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6755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709040" y="45086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421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756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8087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42240" y="450864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771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9106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437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9772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0103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0438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0787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1122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1453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1788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2119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2454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2803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3138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3469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3804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413920" y="45086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4470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4819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5154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5485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5820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910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524560" y="4116240"/>
              <a:ext cx="126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5594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59260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6260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595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6926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26160" y="4116240"/>
              <a:ext cx="126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610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9420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8276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611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8942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277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626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96160" y="4116240"/>
              <a:ext cx="108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0292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627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0958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293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1642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197760" y="4116240"/>
              <a:ext cx="108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308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643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974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309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64440" y="4116240"/>
              <a:ext cx="126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99360" y="4116240"/>
              <a:ext cx="108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4324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659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990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5325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566040" y="4116240"/>
              <a:ext cx="108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00960" y="4116240"/>
              <a:ext cx="108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6340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675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006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7341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676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025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356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691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9022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9357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692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0041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0372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0707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104240" y="4116240"/>
              <a:ext cx="108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1373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1708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03960" y="4116240"/>
              <a:ext cx="129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723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05840" y="4116240"/>
              <a:ext cx="108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389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3724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055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404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739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507440" y="4116240"/>
              <a:ext cx="108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405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740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6071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420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755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709040" y="4116240"/>
              <a:ext cx="108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7421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7756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8087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42240" y="4116240"/>
              <a:ext cx="126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8771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9106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9437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9772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103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438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787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122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453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1788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2119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2454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2803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3138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469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804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413920" y="4116240"/>
              <a:ext cx="108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4470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4819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5154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5485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5820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4910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24560" y="3724200"/>
              <a:ext cx="1260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5594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59260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6260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65956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926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26160" y="3724200"/>
              <a:ext cx="1260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610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79420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276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86116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8942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92776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626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96160" y="3724200"/>
              <a:ext cx="1080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292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06276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958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12936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1642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97760" y="3724200"/>
              <a:ext cx="1080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308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26436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2974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096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64440" y="3724200"/>
              <a:ext cx="1260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399360" y="3724200"/>
              <a:ext cx="1080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643248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4659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49908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5325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566040" y="3724200"/>
            <a:ext cx="1080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600960" y="3724200"/>
            <a:ext cx="1080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63408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6675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0068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7341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7676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025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83568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691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90228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9357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9692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0041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3728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707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104240" y="3724200"/>
            <a:ext cx="1080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1373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1708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203960" y="3724200"/>
            <a:ext cx="129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23888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2723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305840" y="3724200"/>
            <a:ext cx="1080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3389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3724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4055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44048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4739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507440" y="3724200"/>
            <a:ext cx="1080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5405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5740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071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64208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6755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709040" y="3724200"/>
            <a:ext cx="1080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7421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7756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8087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842240" y="3724200"/>
            <a:ext cx="1260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8771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9106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9437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9772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0103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0438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0787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1122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453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1788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2119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2454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2803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3138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3469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4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413920" y="3724200"/>
            <a:ext cx="1080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4470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4819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5154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5485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5820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491080" y="3724200"/>
            <a:ext cx="1800" cy="1957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442120" y="5681520"/>
            <a:ext cx="489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442120" y="5288040"/>
            <a:ext cx="48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442120" y="4896000"/>
            <a:ext cx="48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442120" y="4508640"/>
            <a:ext cx="48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42120" y="4116240"/>
            <a:ext cx="489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442120" y="3724200"/>
            <a:ext cx="489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491080" y="5681520"/>
            <a:ext cx="311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5491080" y="5681520"/>
            <a:ext cx="1800" cy="38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7048440" y="5681520"/>
            <a:ext cx="1800" cy="38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8604360" y="5681520"/>
            <a:ext cx="1440" cy="38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6270480" y="4508280"/>
            <a:ext cx="1555920" cy="77940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70480" y="4116240"/>
            <a:ext cx="1501920" cy="37944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235560" y="5254560"/>
            <a:ext cx="68400" cy="68400"/>
          </a:xfrm>
          <a:custGeom>
            <a:avLst/>
            <a:gdLst/>
            <a:ahLst/>
            <a:rect l="l" t="t" r="r" b="b"/>
            <a:pathLst>
              <a:path w="43" h="43">
                <a:moveTo>
                  <a:pt x="22" y="0"/>
                </a:moveTo>
                <a:lnTo>
                  <a:pt x="43" y="21"/>
                </a:lnTo>
                <a:lnTo>
                  <a:pt x="22" y="43"/>
                </a:lnTo>
                <a:lnTo>
                  <a:pt x="0" y="21"/>
                </a:lnTo>
                <a:lnTo>
                  <a:pt x="22" y="0"/>
                </a:lnTo>
                <a:close/>
              </a:path>
            </a:pathLst>
          </a:custGeom>
          <a:solidFill>
            <a:srgbClr val="ff0000"/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792920" y="4475160"/>
            <a:ext cx="66960" cy="68400"/>
          </a:xfrm>
          <a:custGeom>
            <a:avLst/>
            <a:gdLst/>
            <a:ahLst/>
            <a:rect l="l" t="t" r="r" b="b"/>
            <a:pathLst>
              <a:path w="42" h="43">
                <a:moveTo>
                  <a:pt x="21" y="0"/>
                </a:moveTo>
                <a:lnTo>
                  <a:pt x="42" y="21"/>
                </a:lnTo>
                <a:lnTo>
                  <a:pt x="21" y="43"/>
                </a:lnTo>
                <a:lnTo>
                  <a:pt x="0" y="21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248520" y="4114800"/>
            <a:ext cx="61920" cy="61920"/>
          </a:xfrm>
          <a:prstGeom prst="ellipse">
            <a:avLst/>
          </a:prstGeom>
          <a:solidFill>
            <a:srgbClr val="0000ff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772400" y="4495680"/>
            <a:ext cx="61920" cy="61920"/>
          </a:xfrm>
          <a:prstGeom prst="ellipse">
            <a:avLst/>
          </a:prstGeom>
          <a:solidFill>
            <a:srgbClr val="0000ff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244120" y="559116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244120" y="519912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244120" y="480708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244120" y="441972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244120" y="402732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244120" y="363384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5182920" y="1574640"/>
            <a:ext cx="3123000" cy="1930680"/>
            <a:chOff x="5182920" y="1574640"/>
            <a:chExt cx="3123000" cy="1930680"/>
          </a:xfrm>
        </p:grpSpPr>
        <p:sp>
          <p:nvSpPr>
            <p:cNvPr id="786" name=""/>
            <p:cNvSpPr/>
            <p:nvPr/>
          </p:nvSpPr>
          <p:spPr>
            <a:xfrm>
              <a:off x="6856560" y="2379600"/>
              <a:ext cx="693720" cy="53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12200" y="2379600"/>
              <a:ext cx="693720" cy="53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612200" y="2971800"/>
              <a:ext cx="693720" cy="53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56560" y="2971800"/>
              <a:ext cx="693720" cy="53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983280" y="2438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740720" y="2438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740720" y="3030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983280" y="3030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182920" y="2717640"/>
              <a:ext cx="112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tor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11360" y="1574640"/>
              <a:ext cx="110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tor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402600" y="2895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402240" y="2438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983640" y="1905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740360" y="1905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6022080" y="5715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621920" y="571500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640480" y="380988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640840" y="5029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50720" y="1066680"/>
            <a:ext cx="515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ma interação é caracterizada qu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 efeito de um fator varia de acordo 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(s) nível(eis) do(s) outro(s) fator(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45560" y="3622680"/>
            <a:ext cx="30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 nível inferior de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= 50 - 20 =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 nível superior de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= 40 - 4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80773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Projetos de experimentos fatoriais com dois fatores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(TWO-WAY ANOVA)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ão os experimentos fatoriais mais sim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tor A com “a” níveis; Fator B com “b” níve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Uma repetição completa envolve “ab” ensa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Matriz de D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380880" y="2133720"/>
          <a:ext cx="838224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38224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380880" y="380880"/>
            <a:ext cx="876312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Modelo estatístic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t-BR" sz="4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 =  µ  +  </a:t>
            </a:r>
            <a:r>
              <a:rPr b="0" lang="pt-BR" sz="4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  +   </a:t>
            </a:r>
            <a:r>
              <a:rPr b="0" lang="pt-BR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4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lang="pt-BR" sz="4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BR" sz="4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 +  e</a:t>
            </a:r>
            <a:r>
              <a:rPr b="0" lang="pt-BR" sz="4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229680" y="2819520"/>
            <a:ext cx="8915040" cy="2034360"/>
            <a:chOff x="229680" y="2819520"/>
            <a:chExt cx="8915040" cy="2034360"/>
          </a:xfrm>
        </p:grpSpPr>
        <p:sp>
          <p:nvSpPr>
            <p:cNvPr id="812" name=""/>
            <p:cNvSpPr/>
            <p:nvPr/>
          </p:nvSpPr>
          <p:spPr>
            <a:xfrm>
              <a:off x="7251120" y="2946240"/>
              <a:ext cx="1893600" cy="825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err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experim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23400" y="3936960"/>
              <a:ext cx="2588760" cy="825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efeito da inter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de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3520" y="3022560"/>
              <a:ext cx="75960" cy="609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29680" y="3708360"/>
              <a:ext cx="126576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respos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14040" y="4394160"/>
              <a:ext cx="17154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média ger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81080" y="3047760"/>
              <a:ext cx="152640" cy="13712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436120" y="3784320"/>
              <a:ext cx="36828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99"/>
                  </a:solidFill>
                  <a:latin typeface="Times New Roman"/>
                </a:rPr>
                <a:t>efeito do i-ésimo nível de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350520" y="3174840"/>
              <a:ext cx="36828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99"/>
                  </a:solidFill>
                  <a:latin typeface="Times New Roman"/>
                </a:rPr>
                <a:t>efeito do j-ésimo nível de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724280" y="2819520"/>
              <a:ext cx="76320" cy="456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2971800"/>
              <a:ext cx="228600" cy="914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153280" y="281952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124080" y="2819520"/>
              <a:ext cx="0" cy="990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762120" y="54864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1, 2, ...,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 = 1, 2, ..., 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= 1, 2, ...,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Hipóteses a serem test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0" lang="pt-BR" sz="3200" spc="-1" strike="noStrike" baseline="-25000">
                <a:solidFill>
                  <a:srgbClr val="000099"/>
                </a:solidFill>
                <a:latin typeface="Arial"/>
              </a:rPr>
              <a:t>ijk</a:t>
            </a:r>
            <a:r>
              <a:rPr b="0" lang="pt-BR" sz="3200" spc="-1" strike="noStrike">
                <a:solidFill>
                  <a:srgbClr val="000099"/>
                </a:solidFill>
                <a:latin typeface="Arial"/>
              </a:rPr>
              <a:t>  =  µ  +  </a:t>
            </a:r>
            <a:r>
              <a:rPr b="0" lang="pt-BR" sz="3200" spc="-1" strike="noStrike">
                <a:solidFill>
                  <a:srgbClr val="000099"/>
                </a:solidFill>
                <a:latin typeface="Symbol"/>
                <a:ea typeface="Symbol"/>
              </a:rPr>
              <a:t></a:t>
            </a:r>
            <a:r>
              <a:rPr b="0" lang="pt-BR" sz="32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r>
              <a:rPr b="0" lang="pt-BR" sz="3200" spc="-1" strike="noStrike">
                <a:solidFill>
                  <a:srgbClr val="000099"/>
                </a:solidFill>
                <a:latin typeface="Arial"/>
              </a:rPr>
              <a:t>   +   </a:t>
            </a:r>
            <a:r>
              <a:rPr b="0" lang="pt-BR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pt-BR" sz="32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pt-BR" sz="3200" spc="-1" strike="noStrike">
                <a:solidFill>
                  <a:srgbClr val="000099"/>
                </a:solidFill>
                <a:latin typeface="Arial"/>
              </a:rPr>
              <a:t>  +  (</a:t>
            </a:r>
            <a:r>
              <a:rPr b="0" lang="pt-BR" sz="3200" spc="-1" strike="noStrike">
                <a:solidFill>
                  <a:srgbClr val="000099"/>
                </a:solidFill>
                <a:latin typeface="Symbol"/>
                <a:ea typeface="Symbol"/>
              </a:rPr>
              <a:t></a:t>
            </a:r>
            <a:r>
              <a:rPr b="0" lang="pt-BR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pt-BR" sz="32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pt-BR" sz="32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pt-BR" sz="3200" spc="-1" strike="noStrike">
                <a:solidFill>
                  <a:srgbClr val="000099"/>
                </a:solidFill>
                <a:latin typeface="Arial"/>
              </a:rPr>
              <a:t>  +  e</a:t>
            </a:r>
            <a:r>
              <a:rPr b="0" lang="pt-BR" sz="3200" spc="-1" strike="noStrike" baseline="-25000">
                <a:solidFill>
                  <a:srgbClr val="000099"/>
                </a:solidFill>
                <a:latin typeface="Arial"/>
              </a:rPr>
              <a:t>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... =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... =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0   para todo i,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Processo de Transform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126520" y="1773360"/>
            <a:ext cx="5925960" cy="2958840"/>
            <a:chOff x="2126520" y="1773360"/>
            <a:chExt cx="5925960" cy="2958840"/>
          </a:xfrm>
        </p:grpSpPr>
        <p:sp>
          <p:nvSpPr>
            <p:cNvPr id="45" name=""/>
            <p:cNvSpPr/>
            <p:nvPr/>
          </p:nvSpPr>
          <p:spPr>
            <a:xfrm>
              <a:off x="3676680" y="2854080"/>
              <a:ext cx="1861920" cy="8841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bf7ff"/>
                  </a:solidFill>
                  <a:latin typeface="Arial"/>
                </a:rPr>
                <a:t>Process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00200" y="3270240"/>
              <a:ext cx="930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637240" y="3270240"/>
              <a:ext cx="931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26520" y="2535120"/>
              <a:ext cx="106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rad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860080" y="3373200"/>
              <a:ext cx="21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ídas -&gt; Respos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349520" y="2385720"/>
              <a:ext cx="0" cy="36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94040" y="2385720"/>
              <a:ext cx="0" cy="36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52960" y="203364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48240" y="203364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2520" y="1773360"/>
              <a:ext cx="26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Parâmetros do 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019400" y="3841200"/>
              <a:ext cx="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4411440" y="3841200"/>
              <a:ext cx="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049720" y="3841200"/>
              <a:ext cx="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59760" y="392904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99560" y="436392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variações do 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osições da AN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A ANOVA supõ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Arial"/>
              </a:rPr>
              <a:t>variância constante nas combinações dos níveis dos fat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Arial"/>
              </a:rPr>
              <a:t>independência entre os ensa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Arial"/>
              </a:rPr>
              <a:t>distribuição normal para a variação aleató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ela da ANO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990720" y="2362320"/>
          <a:ext cx="7014960" cy="249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62320"/>
                    <a:ext cx="701496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4672080" y="1160640"/>
            <a:ext cx="861840" cy="2666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14320" y="1143000"/>
            <a:ext cx="785880" cy="2666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080" y="3352680"/>
            <a:ext cx="4724640" cy="533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08200" y="1143000"/>
            <a:ext cx="4754520" cy="762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304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álculo das somas de quadr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432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ato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fator 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1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..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b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a50021"/>
                </a:solidFill>
                <a:latin typeface="Arial"/>
              </a:rPr>
              <a:t>mé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111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..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11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...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1b1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..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1bn 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11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..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1n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b1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..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1b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..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a11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..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a1n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... 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abn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..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ab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a50021"/>
                </a:solidFill>
                <a:latin typeface="Arial"/>
              </a:rPr>
              <a:t>média</a:t>
            </a:r>
            <a:r>
              <a:rPr b="0" lang="pt-BR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...</a:t>
            </a:r>
            <a:r>
              <a:rPr b="0" lang="pt-BR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4930920" y="1905120"/>
                <a:ext cx="393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826920" y="4952880"/>
                <a:ext cx="24609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793800" y="4191120"/>
                <a:ext cx="2438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3710160" y="5105520"/>
                <a:ext cx="50385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1752480" y="15238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4930920" y="2286000"/>
                <a:ext cx="393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4917960" y="2895480"/>
                <a:ext cx="4190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3943440" y="3352680"/>
                <a:ext cx="3427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1959120" y="3352680"/>
                <a:ext cx="3934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4952880" y="3352680"/>
                <a:ext cx="3492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816120" y="5703840"/>
                <a:ext cx="2482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5092560" y="4191120"/>
                <a:ext cx="3492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50" name=""/>
          <p:cNvSpPr/>
          <p:nvPr/>
        </p:nvSpPr>
        <p:spPr>
          <a:xfrm>
            <a:off x="3832200" y="5715000"/>
            <a:ext cx="510336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- 1       =   a -1       +   b - 1  +  (a-1)(b-1)  +   ab(n -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88360" y="6172200"/>
            <a:ext cx="89712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 = ab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6226200" y="3352680"/>
                <a:ext cx="2239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480" y="38858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a de quadr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029200" y="762120"/>
                <a:ext cx="3843360" cy="54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A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B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AB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Q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Q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R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T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55" name=""/>
          <p:cNvGrpSpPr/>
          <p:nvPr/>
        </p:nvGrpSpPr>
        <p:grpSpPr>
          <a:xfrm>
            <a:off x="46080" y="304920"/>
            <a:ext cx="4830480" cy="2819160"/>
            <a:chOff x="46080" y="304920"/>
            <a:chExt cx="4830480" cy="2819160"/>
          </a:xfrm>
        </p:grpSpPr>
        <p:grpSp>
          <p:nvGrpSpPr>
            <p:cNvPr id="856" name=""/>
            <p:cNvGrpSpPr/>
            <p:nvPr/>
          </p:nvGrpSpPr>
          <p:grpSpPr>
            <a:xfrm>
              <a:off x="46080" y="304920"/>
              <a:ext cx="4830480" cy="2819160"/>
              <a:chOff x="46080" y="304920"/>
              <a:chExt cx="4830480" cy="2819160"/>
            </a:xfrm>
          </p:grpSpPr>
          <p:grpSp>
            <p:nvGrpSpPr>
              <p:cNvPr id="857" name=""/>
              <p:cNvGrpSpPr/>
              <p:nvPr/>
            </p:nvGrpSpPr>
            <p:grpSpPr>
              <a:xfrm>
                <a:off x="46080" y="304920"/>
                <a:ext cx="4754520" cy="2742480"/>
                <a:chOff x="46080" y="304920"/>
                <a:chExt cx="4754520" cy="274248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3909960" y="322200"/>
                  <a:ext cx="861840" cy="26665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52200" y="304920"/>
                  <a:ext cx="785880" cy="26665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75960" y="2514240"/>
                  <a:ext cx="4724640" cy="53316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6080" y="304920"/>
                  <a:ext cx="4754520" cy="761760"/>
                </a:xfrm>
                <a:prstGeom prst="rect">
                  <a:avLst/>
                </a:prstGeom>
                <a:solidFill>
                  <a:srgbClr val="ff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990360" y="685440"/>
                  <a:ext cx="2514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3" name=""/>
              <p:cNvSpPr/>
              <p:nvPr/>
            </p:nvSpPr>
            <p:spPr>
              <a:xfrm>
                <a:off x="75960" y="304920"/>
                <a:ext cx="4800600" cy="28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4000"/>
              </a:bodyPr>
              <a:p>
                <a:pPr marL="322200" indent="-322200">
                  <a:lnSpc>
                    <a:spcPct val="11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ator 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22200" indent="-322200">
                  <a:lnSpc>
                    <a:spcPct val="11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3300"/>
                    </a:solidFill>
                    <a:latin typeface="Arial"/>
                  </a:rPr>
                  <a:t>fator A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      1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     ...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     b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pt-BR" sz="1600" spc="-1" strike="noStrike">
                    <a:solidFill>
                      <a:srgbClr val="a50021"/>
                    </a:solidFill>
                    <a:latin typeface="Arial"/>
                  </a:rPr>
                  <a:t>som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22200" indent="-322200">
                  <a:lnSpc>
                    <a:spcPct val="11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3300"/>
                    </a:solidFill>
                    <a:latin typeface="Arial"/>
                  </a:rPr>
                  <a:t>1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111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...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11n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     ...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1b1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...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1bn 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22200" indent="-322200">
                  <a:lnSpc>
                    <a:spcPct val="11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3300"/>
                    </a:solidFill>
                    <a:latin typeface="Arial"/>
                  </a:rPr>
                  <a:t>2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211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...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21n           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2b1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...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1bn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22200" indent="-322200">
                  <a:lnSpc>
                    <a:spcPct val="11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     ...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22200" indent="-322200">
                  <a:lnSpc>
                    <a:spcPct val="11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3300"/>
                    </a:solidFill>
                    <a:latin typeface="Arial"/>
                  </a:rPr>
                  <a:t>a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a11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...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a1n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     ... 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abn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...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abn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22200" indent="-322200">
                  <a:lnSpc>
                    <a:spcPct val="11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a50021"/>
                    </a:solidFill>
                    <a:latin typeface="Arial"/>
                  </a:rPr>
                  <a:t>soma</a:t>
                </a:r>
                <a:r>
                  <a:rPr b="0" lang="pt-BR" sz="1600" spc="-1" strike="noStrike">
                    <a:solidFill>
                      <a:srgbClr val="a50021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a50021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a50021"/>
                    </a:solidFill>
                    <a:latin typeface="Arial"/>
                  </a:rPr>
                  <a:t>    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...</a:t>
                </a:r>
                <a:r>
                  <a:rPr b="0" lang="pt-BR" sz="1600" spc="-1" strike="noStrike">
                    <a:solidFill>
                      <a:srgbClr val="a50021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a50021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22200" indent="-322200"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a50021"/>
                    </a:solidFill>
                    <a:latin typeface="Arial"/>
                  </a:rPr>
                  <a:t>	</a:t>
                </a:r>
                <a:r>
                  <a:rPr b="1" lang="pt-BR" sz="2000" spc="-1" strike="noStrike">
                    <a:solidFill>
                      <a:srgbClr val="a50021"/>
                    </a:solidFill>
                    <a:latin typeface="Arial"/>
                  </a:rPr>
                  <a:t>	</a:t>
                </a:r>
                <a:r>
                  <a:rPr b="1" lang="pt-BR" sz="2000" spc="-1" strike="noStrike">
                    <a:solidFill>
                      <a:srgbClr val="a50021"/>
                    </a:solidFill>
                    <a:latin typeface="Arial"/>
                  </a:rPr>
                  <a:t>	</a:t>
                </a:r>
                <a:r>
                  <a:rPr b="1" lang="pt-BR" sz="2000" spc="-1" strike="noStrike">
                    <a:solidFill>
                      <a:srgbClr val="a50021"/>
                    </a:solidFill>
                    <a:latin typeface="Arial"/>
                  </a:rPr>
                  <a:t>     </a:t>
                </a: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64" name=""/>
                <p:cNvSpPr txBox="1"/>
                <p:nvPr/>
              </p:nvSpPr>
              <p:spPr>
                <a:xfrm>
                  <a:off x="4168800" y="1066680"/>
                  <a:ext cx="39384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5" name=""/>
                <p:cNvSpPr txBox="1"/>
                <p:nvPr/>
              </p:nvSpPr>
              <p:spPr>
                <a:xfrm>
                  <a:off x="4168800" y="1447920"/>
                  <a:ext cx="3938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6" name=""/>
                <p:cNvSpPr txBox="1"/>
                <p:nvPr/>
              </p:nvSpPr>
              <p:spPr>
                <a:xfrm>
                  <a:off x="4156200" y="2057400"/>
                  <a:ext cx="4190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7" name=""/>
                <p:cNvSpPr txBox="1"/>
                <p:nvPr/>
              </p:nvSpPr>
              <p:spPr>
                <a:xfrm>
                  <a:off x="3181320" y="2514600"/>
                  <a:ext cx="34308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b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8" name=""/>
                <p:cNvSpPr txBox="1"/>
                <p:nvPr/>
              </p:nvSpPr>
              <p:spPr>
                <a:xfrm>
                  <a:off x="1197000" y="2514600"/>
                  <a:ext cx="3938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9" name=""/>
                <p:cNvSpPr txBox="1"/>
                <p:nvPr/>
              </p:nvSpPr>
              <p:spPr>
                <a:xfrm>
                  <a:off x="4191120" y="2514600"/>
                  <a:ext cx="349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Um estudo do tempo de vida de baterias em função dos fatores </a:t>
            </a:r>
            <a:r>
              <a:rPr b="0" i="1" lang="en-US" sz="3000" spc="-1" strike="noStrike">
                <a:solidFill>
                  <a:srgbClr val="3333cc"/>
                </a:solidFill>
                <a:latin typeface="Arial"/>
              </a:rPr>
              <a:t>tipo de material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0" i="1" lang="en-US" sz="3000" spc="-1" strike="noStrike">
                <a:solidFill>
                  <a:srgbClr val="3333cc"/>
                </a:solidFill>
                <a:latin typeface="Arial"/>
              </a:rPr>
              <a:t>temperatura de uso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ontgomery, 1997, p. 23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ste exemplo, quatro repetições (n=4) completas de um experimento fatorial foram realizadas em laboratório obtendo-se os dados mostrados mais adi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ariável resposta: Tempo de vida de baterias (em ho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ator A: Tipo de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íveis: 1, 2 e 3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a=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ator B: Temperatura (º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íveis: 15, 70 e 125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b=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3967920" y="990720"/>
            <a:ext cx="29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mperatura (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1515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94760" y="160020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70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1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99640" y="2533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915480" y="3962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915480" y="5257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439360" y="243828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497480" y="2438280"/>
            <a:ext cx="162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554880" y="2438280"/>
            <a:ext cx="162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439360" y="373392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439360" y="502920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572720" y="373392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572720" y="502920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630840" y="3733920"/>
            <a:ext cx="162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30120" y="502920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9480" y="236232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62120" y="60958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33520" y="9907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09680" y="16002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593080" y="228600"/>
            <a:ext cx="43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ados do exper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Hipóteses Nula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r>
              <a:rPr b="0" lang="en-US" sz="2800" spc="-1" strike="noStrike" baseline="30000">
                <a:solidFill>
                  <a:srgbClr val="003399"/>
                </a:solidFill>
                <a:latin typeface="Arial"/>
              </a:rPr>
              <a:t>(A)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os tempos esperados de resposta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 são iguai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para os três tipos de mater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r>
              <a:rPr b="0" lang="en-US" sz="2800" spc="-1" strike="noStrike" baseline="30000">
                <a:solidFill>
                  <a:srgbClr val="003399"/>
                </a:solidFill>
                <a:latin typeface="Arial"/>
              </a:rPr>
              <a:t>(B)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os tempos esperados de resposta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 são iguai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para as três tempera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r>
              <a:rPr b="0" lang="en-US" sz="2800" spc="-1" strike="noStrike" baseline="30000">
                <a:solidFill>
                  <a:srgbClr val="003399"/>
                </a:solidFill>
                <a:latin typeface="Arial"/>
              </a:rPr>
              <a:t>(AB)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os tempos esperados de resposta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 são iguai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para as duas inter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8001000" y="762120"/>
                <a:ext cx="606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7" name=""/>
          <p:cNvSpPr/>
          <p:nvPr/>
        </p:nvSpPr>
        <p:spPr>
          <a:xfrm>
            <a:off x="3663000" y="304920"/>
            <a:ext cx="29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mperatura (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28600" y="457200"/>
            <a:ext cx="1515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056680" y="99072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70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1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94720" y="1847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10560" y="3276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10560" y="457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2000" y="180324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659400" y="1752480"/>
            <a:ext cx="1552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716800" y="1752480"/>
            <a:ext cx="1552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602000" y="30988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602000" y="4394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735360" y="30988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735360" y="4394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792760" y="3048120"/>
            <a:ext cx="1552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792760" y="4343400"/>
            <a:ext cx="1552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828800" y="9144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04920" y="380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04920" y="16002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772400" y="3808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33520" y="65530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772400" y="5562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906200" y="25909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34,7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3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191120" y="2590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7,2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9436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7,5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906200" y="388620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55,7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114800" y="3886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19,7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019920" y="3886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9,5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906200" y="51055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44,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7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191120" y="5105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45,7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019920" y="5105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5,5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06148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609480" y="5486400"/>
                <a:ext cx="6098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7391520" y="6172200"/>
                <a:ext cx="574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1" name=""/>
          <p:cNvSpPr/>
          <p:nvPr/>
        </p:nvSpPr>
        <p:spPr>
          <a:xfrm>
            <a:off x="1905840" y="5587920"/>
            <a:ext cx="116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4,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73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039200" y="5638680"/>
            <a:ext cx="116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7,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29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96600" y="5638680"/>
            <a:ext cx="98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4,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7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925400" y="1981080"/>
            <a:ext cx="98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83,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9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773120" y="3276720"/>
            <a:ext cx="116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108,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3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773120" y="4572000"/>
            <a:ext cx="116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125,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5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773120" y="5562720"/>
            <a:ext cx="116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105,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7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295280" y="5867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29600" y="1447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7848720" y="6019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914400" y="2590920"/>
                <a:ext cx="544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16002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a de quadr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152280" y="1828800"/>
                <a:ext cx="8839440" cy="42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99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9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A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8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0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09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68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B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38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9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09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911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AB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Q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Q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9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9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09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68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911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61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R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Q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Q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QB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QA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764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68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911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61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23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T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7854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09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764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80773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OBJETIVOS NO PROJETO DE EXPERIMENTOS: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Obter a maior quantidade de informaçã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Reduzir o trabalho/esforço de experimentaçã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Tipicamente significa o menor número de experimento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Realizar mais experimentos não é bom (gasta-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 e recursos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Experimentos bem projetados são mais fáceis 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em analisados.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Arial"/>
              </a:rPr>
              <a:t>ANO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66480" y="1057320"/>
            <a:ext cx="150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nte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667240" y="1066680"/>
            <a:ext cx="164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a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d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573080" y="121932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487840" y="1066680"/>
            <a:ext cx="158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d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545600" y="12952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20" y="2360520"/>
            <a:ext cx="8475840" cy="31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o de mater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683,7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5.341,8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,91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9.118,7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.559,3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8,97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çã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9.613,7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2.403,4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,56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.230,7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675,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7.64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10666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2133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56386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0" y="49528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3280" y="5867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* Significativo a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áfico de méd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8" name=""/>
          <p:cNvGraphicFramePr/>
          <p:nvPr/>
        </p:nvGraphicFramePr>
        <p:xfrm>
          <a:off x="380880" y="1066680"/>
          <a:ext cx="8458200" cy="535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8458200" cy="535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ação múltipla de méd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a variável resposta é do tipo “maior é melhor” e houve interação significativa entre os fatores temperatura e tipo de material, a comparação múltipla de médias será feita para a temperatura 15º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ação múltipla de méd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1143000" y="2057400"/>
                <a:ext cx="64706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MR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75,21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64" name=""/>
          <p:cNvGrpSpPr/>
          <p:nvPr/>
        </p:nvGrpSpPr>
        <p:grpSpPr>
          <a:xfrm>
            <a:off x="1066680" y="3429000"/>
            <a:ext cx="7086240" cy="1838160"/>
            <a:chOff x="1066680" y="3429000"/>
            <a:chExt cx="7086240" cy="1838160"/>
          </a:xfrm>
        </p:grpSpPr>
        <mc:AlternateContent>
          <mc:Choice xmlns:a14="http://schemas.microsoft.com/office/drawing/2010/main" Requires="a14">
            <p:sp>
              <p:nvSpPr>
                <p:cNvPr id="965" name=""/>
                <p:cNvSpPr txBox="1"/>
                <p:nvPr/>
              </p:nvSpPr>
              <p:spPr>
                <a:xfrm>
                  <a:off x="1066680" y="3429000"/>
                  <a:ext cx="5625360" cy="183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y</m:t>
                                  </m:r>
                                </m:e>
                              </m:ba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y</m:t>
                                  </m:r>
                                </m:e>
                              </m:ba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55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44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  <m:e>
                          <m:sSub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y</m:t>
                                  </m:r>
                                </m:e>
                              </m:ba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y</m:t>
                                  </m:r>
                                </m:e>
                              </m:ba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55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4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</m:e>
                        <m:e>
                          <m:sSub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y</m:t>
                                  </m:r>
                                </m:e>
                              </m:ba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y</m:t>
                                  </m:r>
                                </m:e>
                              </m:ba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44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4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966" name=""/>
            <p:cNvGrpSpPr/>
            <p:nvPr/>
          </p:nvGrpSpPr>
          <p:grpSpPr>
            <a:xfrm>
              <a:off x="6911280" y="3494160"/>
              <a:ext cx="1241640" cy="1702800"/>
              <a:chOff x="6911280" y="3494160"/>
              <a:chExt cx="1241640" cy="1702800"/>
            </a:xfrm>
          </p:grpSpPr>
          <p:sp>
            <p:nvSpPr>
              <p:cNvPr id="967" name=""/>
              <p:cNvSpPr/>
              <p:nvPr/>
            </p:nvSpPr>
            <p:spPr>
              <a:xfrm>
                <a:off x="6911280" y="3494160"/>
                <a:ext cx="124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Não sig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911280" y="4147560"/>
                <a:ext cx="124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Não sig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911280" y="4737240"/>
                <a:ext cx="124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Não sig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3276720" y="5638680"/>
                <a:ext cx="22096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TERMINOLOGIA</a:t>
            </a:r>
            <a:br>
              <a:rPr sz="4000"/>
            </a:br>
            <a:br>
              <a:rPr sz="4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ariáveis de Respost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os do produto que podem ser medidos e que permitem quantificar as características de qualidade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râmetros do processo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as variáveis que podem ser alteradas e que talvez tenham um efeito sobre as variáveis do processo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atores Controlávei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onjunto dos parâmetros do processo; são aqueles parâmetros que foram elegidos para serem estudados a vários níveis no experimento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atores Constant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ão os parâmetros do processo que não entram no experimento e que são mantidos constantes durante o experimento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atores Não Controlávei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ão as variáveis que não podem ser controladas. São responsáveis pelo erro experimental (RUÍDO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80773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TIVIDADES DO PROCEDIMENTO EXPERIMENTAL</a:t>
            </a:r>
            <a:br>
              <a:rPr sz="3200"/>
            </a:b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inição dos objetivos do experimento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râmetros do experimento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leção dos fatores de controle e das variáveis de resposta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leção da matriz experimental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alização do experimento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álise dos dado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pretação dos resultado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aboração de relatóri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6932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Projetos de experimentos fatori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2895480"/>
            <a:ext cx="3581280" cy="2743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895480" y="2971800"/>
            <a:ext cx="3251160" cy="2637000"/>
            <a:chOff x="2895480" y="2971800"/>
            <a:chExt cx="3251160" cy="2637000"/>
          </a:xfrm>
        </p:grpSpPr>
        <p:sp>
          <p:nvSpPr>
            <p:cNvPr id="67" name=""/>
            <p:cNvSpPr/>
            <p:nvPr/>
          </p:nvSpPr>
          <p:spPr>
            <a:xfrm>
              <a:off x="4156200" y="5180040"/>
              <a:ext cx="425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95480" y="4114800"/>
              <a:ext cx="35424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15000" y="4800600"/>
              <a:ext cx="43164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95520" y="3676680"/>
              <a:ext cx="1611360" cy="139212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395520" y="3044520"/>
              <a:ext cx="1025640" cy="6332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006880" y="3044520"/>
              <a:ext cx="1027080" cy="6332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5006880" y="4435560"/>
              <a:ext cx="1027080" cy="6350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395520" y="4435560"/>
              <a:ext cx="1025640" cy="63504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21160" y="3044880"/>
              <a:ext cx="0" cy="139068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49600" y="4452840"/>
              <a:ext cx="1611360" cy="180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21160" y="3044880"/>
              <a:ext cx="1612800" cy="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6031080" y="3044520"/>
              <a:ext cx="2880" cy="13906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41520" y="4989600"/>
              <a:ext cx="14616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41520" y="3598920"/>
              <a:ext cx="14616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65720" y="2990880"/>
              <a:ext cx="14760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81680" y="2971800"/>
              <a:ext cx="14760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37120" y="4362480"/>
              <a:ext cx="14760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44960" y="4968720"/>
              <a:ext cx="14760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51320" y="4362480"/>
              <a:ext cx="147600" cy="127080"/>
            </a:xfrm>
            <a:prstGeom prst="ellipse">
              <a:avLst/>
            </a:prstGeom>
            <a:solidFill>
              <a:srgbClr val="cc3300"/>
            </a:solidFill>
            <a:ln w="64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16520" y="3625920"/>
              <a:ext cx="14760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48280" y="5008680"/>
              <a:ext cx="145800" cy="1267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50000" y="4268880"/>
              <a:ext cx="14580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48280" y="3619440"/>
              <a:ext cx="145800" cy="128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48000" y="4268880"/>
              <a:ext cx="14616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48040" y="3249720"/>
              <a:ext cx="146160" cy="1267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49960" y="3341520"/>
              <a:ext cx="145800" cy="128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50040" y="4638600"/>
              <a:ext cx="14580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48120" y="4638600"/>
              <a:ext cx="146160" cy="1270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48080" y="3713040"/>
              <a:ext cx="146160" cy="1270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49800" y="4361040"/>
              <a:ext cx="146160" cy="12672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50080" y="3713040"/>
              <a:ext cx="14580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49720" y="2971800"/>
              <a:ext cx="14616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521320" y="3365280"/>
              <a:ext cx="1440" cy="13906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944880" y="3306600"/>
              <a:ext cx="1800" cy="1392480"/>
            </a:xfrm>
            <a:prstGeom prst="line">
              <a:avLst/>
            </a:prstGeom>
            <a:ln w="1260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232160" y="3642840"/>
              <a:ext cx="1800" cy="13906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157720" y="3041280"/>
              <a:ext cx="1800" cy="1390680"/>
            </a:xfrm>
            <a:prstGeom prst="line">
              <a:avLst/>
            </a:prstGeom>
            <a:ln w="1260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98880" y="4730760"/>
              <a:ext cx="1611360" cy="144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24400" y="3794040"/>
              <a:ext cx="1611360" cy="180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35520" y="3354480"/>
              <a:ext cx="1612800" cy="1440"/>
            </a:xfrm>
            <a:prstGeom prst="line">
              <a:avLst/>
            </a:prstGeom>
            <a:ln w="64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86240" y="4349880"/>
              <a:ext cx="1611360" cy="1440"/>
            </a:xfrm>
            <a:prstGeom prst="line">
              <a:avLst/>
            </a:prstGeom>
            <a:ln w="64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172040" y="3068280"/>
              <a:ext cx="1025280" cy="6318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208400" y="4360680"/>
              <a:ext cx="1041480" cy="693720"/>
            </a:xfrm>
            <a:prstGeom prst="line">
              <a:avLst/>
            </a:prstGeom>
            <a:ln w="1260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408480" y="3797280"/>
              <a:ext cx="1025280" cy="633600"/>
            </a:xfrm>
            <a:prstGeom prst="line">
              <a:avLst/>
            </a:prstGeom>
            <a:ln w="1260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408480" y="3797280"/>
              <a:ext cx="1025280" cy="633600"/>
            </a:xfrm>
            <a:prstGeom prst="line">
              <a:avLst/>
            </a:prstGeom>
            <a:ln w="1260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971960" y="3785760"/>
              <a:ext cx="1025640" cy="6318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48040" y="4038480"/>
              <a:ext cx="150840" cy="127080"/>
            </a:xfrm>
            <a:prstGeom prst="ellipse">
              <a:avLst/>
            </a:prstGeom>
            <a:solidFill>
              <a:srgbClr val="cc3300"/>
            </a:solidFill>
            <a:ln w="64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73480" y="3736800"/>
              <a:ext cx="150840" cy="128880"/>
            </a:xfrm>
            <a:prstGeom prst="ellipse">
              <a:avLst/>
            </a:prstGeom>
            <a:solidFill>
              <a:srgbClr val="cc3300"/>
            </a:solidFill>
            <a:ln w="64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24560" y="4664160"/>
              <a:ext cx="149040" cy="127080"/>
            </a:xfrm>
            <a:prstGeom prst="ellipse">
              <a:avLst/>
            </a:prstGeom>
            <a:solidFill>
              <a:srgbClr val="cc3300"/>
            </a:solidFill>
            <a:ln w="64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78200" y="3278160"/>
              <a:ext cx="14796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65560" y="4297320"/>
              <a:ext cx="14760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42120" y="4008600"/>
              <a:ext cx="147600" cy="1267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233960" y="3805200"/>
              <a:ext cx="915840" cy="579600"/>
            </a:xfrm>
            <a:prstGeom prst="line">
              <a:avLst/>
            </a:prstGeom>
            <a:ln w="1260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9760" y="4002120"/>
              <a:ext cx="146160" cy="1270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8800" y="4094280"/>
              <a:ext cx="1611360" cy="144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1052640"/>
            <a:ext cx="8534160" cy="3200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squema de um projeto fato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3532320"/>
            <a:ext cx="1170000" cy="488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fato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54320" y="3041640"/>
            <a:ext cx="6051600" cy="1757160"/>
            <a:chOff x="2254320" y="3041640"/>
            <a:chExt cx="6051600" cy="1757160"/>
          </a:xfrm>
        </p:grpSpPr>
        <p:sp>
          <p:nvSpPr>
            <p:cNvPr id="125" name=""/>
            <p:cNvSpPr/>
            <p:nvPr/>
          </p:nvSpPr>
          <p:spPr>
            <a:xfrm>
              <a:off x="2644200" y="3286440"/>
              <a:ext cx="5263560" cy="12247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390560" y="3286440"/>
              <a:ext cx="7920" cy="13201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153120" y="3286440"/>
              <a:ext cx="7920" cy="13201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54320" y="304164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71600" y="305136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91320" y="307404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08600" y="308376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37680" y="310644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55320" y="311616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92320" y="3096000"/>
              <a:ext cx="813600" cy="500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09960" y="310644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40840" y="425664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58480" y="426636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11760" y="429876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29760" y="430884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25160" y="429876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2440" y="430884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96080" y="4233960"/>
              <a:ext cx="813600" cy="500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13720" y="424440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525760" y="2478240"/>
            <a:ext cx="5457600" cy="0"/>
          </a:xfrm>
          <a:prstGeom prst="line">
            <a:avLst/>
          </a:prstGeom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71680" y="2266920"/>
            <a:ext cx="390600" cy="488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03720" y="2308320"/>
            <a:ext cx="390600" cy="488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50080" y="2265480"/>
            <a:ext cx="390240" cy="488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86720" y="2297160"/>
            <a:ext cx="390600" cy="49032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0040" y="3287880"/>
            <a:ext cx="0" cy="1223640"/>
          </a:xfrm>
          <a:prstGeom prst="line">
            <a:avLst/>
          </a:prstGeom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3044880"/>
            <a:ext cx="390600" cy="488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74920" y="4233960"/>
            <a:ext cx="388800" cy="49032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78200" y="1981080"/>
            <a:ext cx="1170000" cy="4906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fator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4941360"/>
            <a:ext cx="864216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olvem combinações de níveis de dois ou mais fator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nível de um fator é ensaiado com todos os níveis dos outros fa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Vantagens dos experimentos fatori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25909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oriais cruzados são mais econô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oriais cruzados permitem que se avalie inter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ite maior precisão para estimar os efeitos princip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00:24:06Z</dcterms:created>
  <dc:creator>Pedro Alberto Barbetta</dc:creator>
  <dc:description/>
  <dc:language>en-US</dc:language>
  <cp:lastModifiedBy>imat</cp:lastModifiedBy>
  <dcterms:modified xsi:type="dcterms:W3CDTF">2005-08-29T17:52:27Z</dcterms:modified>
  <cp:revision>102</cp:revision>
  <dc:subject/>
  <dc:title>Projeto de experimentos fatorial</dc:title>
</cp:coreProperties>
</file>