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E3D-742C-4747-BFC4-99DF6BC6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767-A6B5-4751-AF54-0D12A257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198-A07C-49E6-A26B-A625AC30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C19-D1D1-4A3F-A828-C377D264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9CA-C25A-4B0C-AB94-7CB5DAC2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BB3-7694-4631-A5A1-8C501F3C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400-954E-4EBA-879B-221A8404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A6E-E1A0-40A2-A203-7C6B553A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28A-2239-41B1-8DB9-93FE8DDB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C8A-3AF9-493F-AA11-5ABC1392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7BB-CD23-4766-BCB6-7E41FE8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C00-6060-4C3D-AC23-70A47F7C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1250-C297-4C99-97F4-250E7927E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Arial"/>
              </a:rPr>
              <a:t>PROJETO E ANÁLISE DE EXPERIM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480060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CELINO ZEMIAC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RICIA 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00" y="762120"/>
          <a:ext cx="84960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2120"/>
                    <a:ext cx="8496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ipóteses Nula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2800" spc="-1" strike="noStrike" baseline="30000">
                <a:solidFill>
                  <a:srgbClr val="003399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pt-BR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 para os três níveis de carbona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2800" spc="-1" strike="noStrike" baseline="30000">
                <a:solidFill>
                  <a:srgbClr val="003399"/>
                </a:solidFill>
                <a:latin typeface="Arial"/>
              </a:rPr>
              <a:t>(B)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pt-BR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 para os dois níveis de p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2800" spc="-1" strike="noStrike" baseline="30000">
                <a:solidFill>
                  <a:srgbClr val="003399"/>
                </a:solidFill>
                <a:latin typeface="Arial"/>
              </a:rPr>
              <a:t>(C)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pt-BR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 para os dois níveis de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2800" spc="-1" strike="noStrike" baseline="30000">
                <a:solidFill>
                  <a:srgbClr val="003399"/>
                </a:solidFill>
                <a:latin typeface="Arial"/>
              </a:rPr>
              <a:t>(AB)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pt-BR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 para os f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3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3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3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 de quad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1828800"/>
          <a:ext cx="88394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8394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PERIMENTOS FATORIAIS COM FATORES ALEATÓ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FATORE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ores quanti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e reg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íveis dos fatores escolhidos aleatori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ências para todos os possíveis níveis dos f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 com “a”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B com “b” níveis aleató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delo estatíst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=  µ  + 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+  e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on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, (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, e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são v.a.’s independen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e têm distribuição normal com média zero e variâncias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90720" y="5029200"/>
            <a:ext cx="6933960" cy="1076400"/>
            <a:chOff x="990720" y="5029200"/>
            <a:chExt cx="6933960" cy="10764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362320" y="5083200"/>
                  <a:ext cx="152388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191120" y="5029200"/>
                  <a:ext cx="1600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095880" y="5105520"/>
                  <a:ext cx="182880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[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τβ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]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990720" y="5562720"/>
                  <a:ext cx="16002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>
            <a:off x="7543800" y="25909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= 1, 2, ...,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= 1, 2, ...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1, 2, ..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71600" y="2590920"/>
            <a:ext cx="7238880" cy="2059920"/>
            <a:chOff x="1371600" y="2590920"/>
            <a:chExt cx="7238880" cy="2059920"/>
          </a:xfrm>
        </p:grpSpPr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1371600" y="2590920"/>
                  <a:ext cx="6432480" cy="9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"/>
            <p:cNvSpPr/>
            <p:nvPr/>
          </p:nvSpPr>
          <p:spPr>
            <a:xfrm rot="16200000">
              <a:off x="5334120" y="1599840"/>
              <a:ext cx="609480" cy="42670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11240 h 4267080"/>
                <a:gd name="textAreaBottom" fmla="*/ 415584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5320" y="4191120"/>
              <a:ext cx="510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onentes da variâ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óteses a serem test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3200400"/>
                <a:ext cx="2590560" cy="25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ados médios espe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05120" y="2819520"/>
                <a:ext cx="5162400" cy="30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52640"/>
            <a:ext cx="853416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squema de um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532320"/>
            <a:ext cx="11700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fat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54320" y="3041640"/>
            <a:ext cx="6051600" cy="1757160"/>
            <a:chOff x="2254320" y="3041640"/>
            <a:chExt cx="6051600" cy="1757160"/>
          </a:xfrm>
        </p:grpSpPr>
        <p:sp>
          <p:nvSpPr>
            <p:cNvPr id="47" name=""/>
            <p:cNvSpPr/>
            <p:nvPr/>
          </p:nvSpPr>
          <p:spPr>
            <a:xfrm>
              <a:off x="2644200" y="3286440"/>
              <a:ext cx="5263560" cy="1224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390560" y="3286440"/>
              <a:ext cx="7920" cy="13201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6153120" y="3286440"/>
              <a:ext cx="7920" cy="13201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54320" y="30416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71600" y="30513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91320" y="30740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08600" y="30837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37680" y="31064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55320" y="31161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92320" y="3096000"/>
              <a:ext cx="813600" cy="500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09960" y="31064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40840" y="42566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58480" y="42663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11760" y="429876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29760" y="43088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5160" y="429876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2440" y="43088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6080" y="4233960"/>
              <a:ext cx="813600" cy="500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13720" y="424440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25760" y="2478240"/>
            <a:ext cx="545760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226692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3720" y="230832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0080" y="2265480"/>
            <a:ext cx="39024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86720" y="2297160"/>
            <a:ext cx="390600" cy="490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0040" y="3287880"/>
            <a:ext cx="0" cy="122364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04488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74920" y="4233960"/>
            <a:ext cx="388800" cy="490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78200" y="1981080"/>
            <a:ext cx="1170000" cy="4906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fato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4941360"/>
            <a:ext cx="864216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olvem combinações de níveis de dois ou mais fato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nível de um fator é ensaiado com todos os níveis dos outros f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8288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4290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50292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905120"/>
            <a:ext cx="2781360" cy="1388880"/>
            <a:chOff x="304920" y="1905120"/>
            <a:chExt cx="2781360" cy="1388880"/>
          </a:xfrm>
        </p:grpSpPr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304920" y="1905120"/>
                  <a:ext cx="1447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3880" y="2362320"/>
                  <a:ext cx="156240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" name=""/>
          <p:cNvGrpSpPr/>
          <p:nvPr/>
        </p:nvGrpSpPr>
        <p:grpSpPr>
          <a:xfrm>
            <a:off x="3200400" y="3505320"/>
            <a:ext cx="2800440" cy="1401480"/>
            <a:chOff x="3200400" y="3505320"/>
            <a:chExt cx="2800440" cy="1401480"/>
          </a:xfrm>
        </p:grpSpPr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4419720" y="3962520"/>
                  <a:ext cx="158112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200400" y="3505320"/>
                  <a:ext cx="1517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"/>
          <p:cNvGrpSpPr/>
          <p:nvPr/>
        </p:nvGrpSpPr>
        <p:grpSpPr>
          <a:xfrm>
            <a:off x="5943600" y="5105520"/>
            <a:ext cx="2876400" cy="1385640"/>
            <a:chOff x="5943600" y="5105520"/>
            <a:chExt cx="2876400" cy="138564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5943600" y="5105520"/>
                  <a:ext cx="152388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7391520" y="5638680"/>
                  <a:ext cx="142848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920" y="3429000"/>
                <a:ext cx="23367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29000" y="4952880"/>
                <a:ext cx="1949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10280" y="4419720"/>
                <a:ext cx="17971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ção das componentes da variâ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819520" y="2666880"/>
                <a:ext cx="3162240" cy="38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o de capacidade de um instrumentou ou estudo de repetibilidade e reprodutibilidade de um instrumento (R&amp;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 partes (a=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operadores (b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repetições (n=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38080" y="2666880"/>
            <a:ext cx="8382240" cy="3629880"/>
            <a:chOff x="838080" y="2666880"/>
            <a:chExt cx="8382240" cy="3629880"/>
          </a:xfrm>
        </p:grpSpPr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600200" y="2666880"/>
                  <a:ext cx="6248520" cy="105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2971800" y="47242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8480" y="43434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0280" y="37339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rro aleató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080" y="510552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e, operador e instru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6720" y="3657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28800" y="36576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15200" y="358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728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581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90720" y="2971800"/>
            <a:ext cx="7162560" cy="2592360"/>
            <a:chOff x="990720" y="2971800"/>
            <a:chExt cx="7162560" cy="2592360"/>
          </a:xfrm>
        </p:grpSpPr>
        <p:grpSp>
          <p:nvGrpSpPr>
            <p:cNvPr id="173" name=""/>
            <p:cNvGrpSpPr/>
            <p:nvPr/>
          </p:nvGrpSpPr>
          <p:grpSpPr>
            <a:xfrm>
              <a:off x="990720" y="2971800"/>
              <a:ext cx="3886200" cy="2592360"/>
              <a:chOff x="990720" y="2971800"/>
              <a:chExt cx="3886200" cy="259236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1600200" y="2971800"/>
                    <a:ext cx="91440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990720" y="4572000"/>
                    <a:ext cx="2184120" cy="99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6" name=""/>
              <p:cNvSpPr/>
              <p:nvPr/>
            </p:nvSpPr>
            <p:spPr>
              <a:xfrm>
                <a:off x="3505320" y="342900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05320" y="49528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486400" y="31240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Repetibil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47242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odutibil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81160" y="2895480"/>
          <a:ext cx="8634240" cy="20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2895480"/>
                    <a:ext cx="8634240" cy="20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14600" y="2455920"/>
                <a:ext cx="4114800" cy="37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880" y="3048120"/>
          <a:ext cx="8458200" cy="166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845820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delo reduzi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=  µ  + 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+  e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00880" y="4524480"/>
                <a:ext cx="354312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8</m:t>
                        </m:r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85800" y="3311640"/>
                <a:ext cx="7848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strument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β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0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0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Vantagens dos experimentos fatori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590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oriais cruzados são mais econô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oriais cruzados permitem que se avalie inte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e maior precisão para estimar os efeitos princip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PERIMENTOS FATORIAIS COM FATORES MI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 com “a” nívei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i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B com “b” nívei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leatóri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80880"/>
            <a:ext cx="87631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odelo estatís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=  µ  + 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+  e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42280" y="3657600"/>
            <a:ext cx="8002440" cy="1678680"/>
            <a:chOff x="1142280" y="3657600"/>
            <a:chExt cx="8002440" cy="1678680"/>
          </a:xfrm>
        </p:grpSpPr>
        <p:sp>
          <p:nvSpPr>
            <p:cNvPr id="202" name=""/>
            <p:cNvSpPr/>
            <p:nvPr/>
          </p:nvSpPr>
          <p:spPr>
            <a:xfrm>
              <a:off x="7251120" y="3784320"/>
              <a:ext cx="1893600" cy="825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rr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xperi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79680" y="4876560"/>
              <a:ext cx="32072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feito de AB (aleatóri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2280" y="4800600"/>
              <a:ext cx="23432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feito de A (fix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50160" y="4012920"/>
              <a:ext cx="29880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feito de B (aleatóri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4280" y="3657600"/>
              <a:ext cx="763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080" y="3809880"/>
              <a:ext cx="22860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53280" y="365760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24080" y="3657600"/>
              <a:ext cx="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85800" y="5791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1, 2, ...,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= 1, 2, ...,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1, 2, ...,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5800" y="1981080"/>
            <a:ext cx="8458200" cy="2765520"/>
            <a:chOff x="685800" y="1981080"/>
            <a:chExt cx="8458200" cy="2765520"/>
          </a:xfrm>
        </p:grpSpPr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685800" y="1981080"/>
                  <a:ext cx="2895480" cy="24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a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rPr>
                              <m:lit/>
                              <m:nor/>
                            </m:rPr>
                            <m:t xml:space="preserve">NIID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  <m:sSub>
                            <m:e>
                              <m:r>
                                <m:t xml:space="preserve">)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"/>
            <p:cNvSpPr/>
            <p:nvPr/>
          </p:nvSpPr>
          <p:spPr>
            <a:xfrm>
              <a:off x="1676520" y="3962520"/>
              <a:ext cx="64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é uma v.a. normal com média 0 e variâ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7594560" y="3733920"/>
                  <a:ext cx="154944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a</m:t>
                              </m:r>
                            </m:den>
                          </m:f>
                        </m:e>
                      </m:d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19320" y="4572000"/>
                <a:ext cx="3962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τβ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τβ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τβ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80880" y="3124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37339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00400" y="5410080"/>
            <a:ext cx="2438280" cy="609840"/>
            <a:chOff x="3200400" y="5410080"/>
            <a:chExt cx="2438280" cy="609840"/>
          </a:xfrm>
        </p:grpSpPr>
        <p:sp>
          <p:nvSpPr>
            <p:cNvPr id="222" name=""/>
            <p:cNvSpPr/>
            <p:nvPr/>
          </p:nvSpPr>
          <p:spPr>
            <a:xfrm>
              <a:off x="3200400" y="60199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00400" y="5410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791320" y="5029200"/>
            <a:ext cx="3581280" cy="1618200"/>
            <a:chOff x="5791320" y="5029200"/>
            <a:chExt cx="3581280" cy="1618200"/>
          </a:xfrm>
        </p:grpSpPr>
        <p:sp>
          <p:nvSpPr>
            <p:cNvPr id="225" name=""/>
            <p:cNvSpPr/>
            <p:nvPr/>
          </p:nvSpPr>
          <p:spPr>
            <a:xfrm>
              <a:off x="5791320" y="5029200"/>
              <a:ext cx="281916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867280" y="5029200"/>
              <a:ext cx="3505320" cy="1618200"/>
              <a:chOff x="5867280" y="5029200"/>
              <a:chExt cx="3505320" cy="1618200"/>
            </a:xfrm>
          </p:grpSpPr>
          <p:sp>
            <p:nvSpPr>
              <p:cNvPr id="227" name=""/>
              <p:cNvSpPr/>
              <p:nvPr/>
            </p:nvSpPr>
            <p:spPr>
              <a:xfrm>
                <a:off x="5943600" y="5029200"/>
                <a:ext cx="236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estrição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8" name=""/>
                  <p:cNvSpPr txBox="1"/>
                  <p:nvPr/>
                </p:nvSpPr>
                <p:spPr>
                  <a:xfrm>
                    <a:off x="5867280" y="5562720"/>
                    <a:ext cx="2400480" cy="799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τβ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9" name=""/>
              <p:cNvSpPr/>
              <p:nvPr/>
            </p:nvSpPr>
            <p:spPr>
              <a:xfrm>
                <a:off x="7391520" y="6248520"/>
                <a:ext cx="198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=1,2,...,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828800" y="5410080"/>
                <a:ext cx="685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286000" y="2293920"/>
                <a:ext cx="5181480" cy="37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762120" y="2133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dos méd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18288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4290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50292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905120"/>
            <a:ext cx="2781360" cy="1388880"/>
            <a:chOff x="304920" y="1905120"/>
            <a:chExt cx="2781360" cy="138888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304920" y="1905120"/>
                  <a:ext cx="1447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1523880" y="2362320"/>
                  <a:ext cx="156240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"/>
          <p:cNvGrpSpPr/>
          <p:nvPr/>
        </p:nvGrpSpPr>
        <p:grpSpPr>
          <a:xfrm>
            <a:off x="3263760" y="3517920"/>
            <a:ext cx="2737080" cy="1388880"/>
            <a:chOff x="3263760" y="3517920"/>
            <a:chExt cx="2737080" cy="13888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419720" y="3962520"/>
                  <a:ext cx="158112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3263760" y="3517920"/>
                  <a:ext cx="138924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5943600" y="5105520"/>
            <a:ext cx="2813040" cy="1385640"/>
            <a:chOff x="5943600" y="5105520"/>
            <a:chExt cx="2813040" cy="138564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943600" y="5105520"/>
                  <a:ext cx="152388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453440" y="5638680"/>
                  <a:ext cx="130320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4920" y="3429000"/>
                <a:ext cx="23367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29000" y="4952880"/>
                <a:ext cx="1949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010280" y="4419720"/>
                <a:ext cx="17971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2743200"/>
                <a:ext cx="297180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943600" y="3962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1,2,...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057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fixo do modelo m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057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ção das componentes da variância pelo método de análise de vari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819520" y="3048120"/>
                <a:ext cx="3162240" cy="33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8288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operadores (fator fix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0 partes (fator aleató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33520" y="3962520"/>
          <a:ext cx="8001000" cy="188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00100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18288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600200" y="2743200"/>
                <a:ext cx="5904000" cy="30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GENERALIZAÇÃO DOS PROJETOS FATORIAIS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A com “a” nívei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B com “b” níveis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C com “c” níveis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K com “k” nívei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observações por parcela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e observações-&gt; N=a*b*c*...*k*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ições sempre são consideradas aleató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índices divididos em 3 classes:   v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1905120"/>
            <a:ext cx="746748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o quadrado médi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tabel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ha – fa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na – sub-í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266688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47242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905120" y="3048120"/>
          <a:ext cx="5181480" cy="274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5181480" cy="27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057400" y="2666880"/>
          <a:ext cx="5029200" cy="26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66880"/>
                    <a:ext cx="502920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057400" y="2819520"/>
          <a:ext cx="5033880" cy="266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503388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4 – modelo aleató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04880" y="2685960"/>
          <a:ext cx="683892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685960"/>
                    <a:ext cx="683892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952880" y="3581280"/>
                <a:ext cx="2470320" cy="22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4 – modelo m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90720" y="2666880"/>
          <a:ext cx="670536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67053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105520" y="3505320"/>
                <a:ext cx="2514600" cy="23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04640"/>
            <a:ext cx="914400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odelo estatístico para  3 fatores fix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=µ +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+        + (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+           +          +               +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j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708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1, 2, ...,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= 1, 2, ...,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1, 2, ...,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360" y="1773360"/>
          <a:ext cx="56052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73360"/>
                    <a:ext cx="5605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716360" y="1773360"/>
          <a:ext cx="93528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773360"/>
                    <a:ext cx="93528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012000" y="1844640"/>
          <a:ext cx="86508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844640"/>
                    <a:ext cx="8650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020000" y="1916280"/>
          <a:ext cx="11523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1916280"/>
                    <a:ext cx="1152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094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siçõ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00400" y="3429000"/>
          <a:ext cx="367344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3429000"/>
                    <a:ext cx="3673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28600" y="457200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ortante:  - Modelo para níveis fix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Se for significativa a interação entre os fatores, os efeitos principais perdem sua importâ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Homocedasticidade.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ipóteses a serem test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...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...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   para todo i,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a da AN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562040"/>
          <a:ext cx="7886880" cy="35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62040"/>
                    <a:ext cx="788688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 de quad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692280"/>
          <a:ext cx="84978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92280"/>
                    <a:ext cx="849780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mplo fatorial com mais de 2 fa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MPLO (Montgomery, 1997, p. 258): No processo de enchimento de garrafas de bebidas,  procura-se garantir pouca variação no nível de bebida colocada nas garrafas. Os principais fatores que podem causar variações no nível de enchimento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) percentagem de 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; 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) pressão do enchimento  (B)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) velocidade da linha de produção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Variável resposta: diferença entre o observado e o espec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00:24:06Z</dcterms:created>
  <dc:creator>Pedro Alberto Barbetta</dc:creator>
  <dc:description/>
  <dc:language>en-US</dc:language>
  <cp:lastModifiedBy>imat</cp:lastModifiedBy>
  <dcterms:modified xsi:type="dcterms:W3CDTF">2005-08-29T17:53:46Z</dcterms:modified>
  <cp:revision>138</cp:revision>
  <dc:subject/>
  <dc:title>Projeto de experimentos fatorial</dc:title>
</cp:coreProperties>
</file>