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d9ff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601C-98EA-471E-A509-DC5C61AEA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exemplo posso ter 12 terças-frações do delineamento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exemplo posso ter 12 terças-frações do delineamento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exemplo posso ter 12 terças-frações do delineamento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exemplo posso ter 12 terças-frações do delineamento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exemplo posso ter 12 terças-frações do delineamento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exemplo posso ter 12 terças-frações do delineamento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exemplo posso ter 12 terças-frações do delineamento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exemplo posso ter 12 terças-frações do delineamento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exemplo posso ter 12 terças-frações do delineamento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exemplo posso ter 12 terças-frações do delineamento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exemplo posso ter 12 terças-frações do delineamento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8622-DD1C-4002-9221-7FA42945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D2B-E9F8-4BE2-9BA0-9A7292CD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759-1576-4040-A99E-4891A607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AC8-E986-43BC-B2F2-A051C214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719B-AA18-44FB-B657-5E45BEB4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840-8180-4FEF-B2F2-E2B3E447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F334-3D22-449F-9050-81A2BE6E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D7D1-7891-4A49-B19E-F21A9606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1C0-04BE-4E8D-909C-715E227E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6C2-6300-436F-9F33-EB4BDC9F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E20-C45F-41A9-A7DA-4374B8C9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98B-FA88-4ADE-979B-FF63BC24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d9f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05DE-000C-44D7-85FD-BA0F26D49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859280" y="1268280"/>
            <a:ext cx="3200400" cy="2637000"/>
            <a:chOff x="4859280" y="1268280"/>
            <a:chExt cx="3200400" cy="2637000"/>
          </a:xfrm>
        </p:grpSpPr>
        <p:sp>
          <p:nvSpPr>
            <p:cNvPr id="49" name=""/>
            <p:cNvSpPr/>
            <p:nvPr/>
          </p:nvSpPr>
          <p:spPr>
            <a:xfrm>
              <a:off x="6120000" y="3476520"/>
              <a:ext cx="425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59280" y="2411280"/>
              <a:ext cx="35424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02480" y="3173400"/>
              <a:ext cx="4320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59320" y="1973160"/>
              <a:ext cx="1611360" cy="139248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359320" y="1341360"/>
              <a:ext cx="1025640" cy="6336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970680" y="1341360"/>
              <a:ext cx="1027080" cy="6336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970680" y="2732040"/>
              <a:ext cx="1027080" cy="6350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5359320" y="2732040"/>
              <a:ext cx="1025640" cy="6350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84960" y="1341360"/>
              <a:ext cx="0" cy="13906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13400" y="2749680"/>
              <a:ext cx="1611360" cy="14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84960" y="1341360"/>
              <a:ext cx="16128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7994880" y="1341000"/>
              <a:ext cx="2880" cy="1390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05320" y="3286080"/>
              <a:ext cx="14616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05320" y="1895400"/>
              <a:ext cx="14616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29520" y="128736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45480" y="126828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00920" y="265896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08760" y="326556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15120" y="2658960"/>
              <a:ext cx="147600" cy="12708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80320" y="192240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12080" y="3305160"/>
              <a:ext cx="1458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913800" y="2565360"/>
              <a:ext cx="1458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12080" y="1916280"/>
              <a:ext cx="145800" cy="1285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11800" y="2565360"/>
              <a:ext cx="14616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11840" y="1546200"/>
              <a:ext cx="14616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13760" y="1638360"/>
              <a:ext cx="145800" cy="1285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13840" y="2935440"/>
              <a:ext cx="1458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11920" y="2935440"/>
              <a:ext cx="146160" cy="1267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11880" y="2009880"/>
              <a:ext cx="146160" cy="1267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113600" y="2657520"/>
              <a:ext cx="146160" cy="12708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13880" y="2009880"/>
              <a:ext cx="1458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13520" y="1268280"/>
              <a:ext cx="14616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7485120" y="1661760"/>
              <a:ext cx="1440" cy="1390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908680" y="1603080"/>
              <a:ext cx="1800" cy="13921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195960" y="1939680"/>
              <a:ext cx="1800" cy="1390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7121520" y="1337760"/>
              <a:ext cx="1800" cy="13906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62680" y="3027240"/>
              <a:ext cx="1611360" cy="18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88200" y="2090880"/>
              <a:ext cx="1611360" cy="14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99320" y="1650960"/>
              <a:ext cx="161280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50040" y="2646360"/>
              <a:ext cx="161136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135840" y="1364760"/>
              <a:ext cx="1025280" cy="6318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172200" y="2657160"/>
              <a:ext cx="1041480" cy="6937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5372280" y="2093760"/>
              <a:ext cx="1025280" cy="6336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372280" y="2093760"/>
              <a:ext cx="1025280" cy="6336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6935760" y="2082600"/>
              <a:ext cx="1025640" cy="6318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11840" y="2335320"/>
              <a:ext cx="150840" cy="1267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37280" y="2033640"/>
              <a:ext cx="150840" cy="1285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88360" y="2960640"/>
              <a:ext cx="149040" cy="12708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42000" y="1574640"/>
              <a:ext cx="14796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29360" y="259380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05920" y="230508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197760" y="2101680"/>
              <a:ext cx="915840" cy="5796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13560" y="2298600"/>
              <a:ext cx="146160" cy="12708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62600" y="2390760"/>
              <a:ext cx="1611360" cy="14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957720" y="378936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jeto 3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55640" y="1341360"/>
            <a:ext cx="2612880" cy="2917440"/>
            <a:chOff x="755640" y="1341360"/>
            <a:chExt cx="2612880" cy="2917440"/>
          </a:xfrm>
        </p:grpSpPr>
        <p:sp>
          <p:nvSpPr>
            <p:cNvPr id="105" name=""/>
            <p:cNvSpPr/>
            <p:nvPr/>
          </p:nvSpPr>
          <p:spPr>
            <a:xfrm>
              <a:off x="2016000" y="3412800"/>
              <a:ext cx="425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5640" y="2347560"/>
              <a:ext cx="353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55680" y="1909440"/>
              <a:ext cx="1611360" cy="139248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01680" y="3222360"/>
              <a:ext cx="1458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01680" y="1831680"/>
              <a:ext cx="1458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05120" y="320184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76320" y="185868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08080" y="3241440"/>
              <a:ext cx="14616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09800" y="2501640"/>
              <a:ext cx="1458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08080" y="1852560"/>
              <a:ext cx="146160" cy="1285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07800" y="2501640"/>
              <a:ext cx="14616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092320" y="1875960"/>
              <a:ext cx="1440" cy="1390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46040" y="2582640"/>
              <a:ext cx="161136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25360" y="253044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41000" y="3738240"/>
              <a:ext cx="15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Times New Roman"/>
                </a:rPr>
                <a:t>Projeto 3</a:t>
              </a:r>
              <a:r>
                <a:rPr b="0" lang="pt-BR" sz="28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36360" y="1341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6960" y="137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29080" y="137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33280" y="1680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09960" y="236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09960" y="3052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11280" y="260280"/>
            <a:ext cx="77724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Projetos Fatoriais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87640" y="4653000"/>
            <a:ext cx="3041640" cy="1587240"/>
            <a:chOff x="2987640" y="4653000"/>
            <a:chExt cx="3041640" cy="1587240"/>
          </a:xfrm>
        </p:grpSpPr>
        <p:sp>
          <p:nvSpPr>
            <p:cNvPr id="128" name=""/>
            <p:cNvSpPr/>
            <p:nvPr/>
          </p:nvSpPr>
          <p:spPr>
            <a:xfrm flipV="1">
              <a:off x="5959440" y="4711320"/>
              <a:ext cx="6480" cy="641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87640" y="4863960"/>
              <a:ext cx="35424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9640" y="4697280"/>
              <a:ext cx="6480" cy="6415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578400" y="5397120"/>
              <a:ext cx="2305080" cy="6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74160" y="5719680"/>
              <a:ext cx="200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Times New Roman"/>
                </a:rPr>
                <a:t>Projeto 4 x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21160" y="4711680"/>
              <a:ext cx="23623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50000" y="467820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83480" y="5321160"/>
              <a:ext cx="1458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045040" y="4711320"/>
              <a:ext cx="6480" cy="641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3475080" y="4711320"/>
              <a:ext cx="23760" cy="663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33680" y="465300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08680" y="468000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40440" y="4673520"/>
              <a:ext cx="145800" cy="1285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42160" y="5322960"/>
              <a:ext cx="1458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40160" y="532296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57720" y="535140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35560" y="5473440"/>
              <a:ext cx="353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Repetição Fracionada –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-1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Alias no Fatorial 3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3-1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: produto do efeito por I e I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=A(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=A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(A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=A(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=B(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=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=B(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(A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B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=C(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=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=C(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(A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B=AB(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=A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(A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B=AB(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A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=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(B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)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B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Repetição Fracionada –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-1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Alias no Fatorial 3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3-1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s 4 efeitos estimados com 8 gl são: A+BC+ABC, B+A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+AB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C+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+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 e AB+AC+B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se delineamento tem resolução III, já que os efeitos principais tem como aliases interações de 2 fat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Repetição Fracionada –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-p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Pode-se construir uma fração (1/3)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p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de um fatorial 3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, para p&lt;k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k-2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: delineamento com fração 1/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k-3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: delineamento com fração 1/27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Construção: seleciona-se p contrastes de definição e com isso particiona-se o fatorial 3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em 3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p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blocos. Os aliases são obtidos pelo produto do efeito por I e I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Repetição Fracionada –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-p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Exemplo 3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4-2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: construção no Exc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Contrastes: AB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C e BC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I= AB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C = BCD = AC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D = ABD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Aliases de A sã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: AB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=ABCD=ACD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=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B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=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=CD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=BD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828800" y="3352680"/>
            <a:ext cx="6629400" cy="1145520"/>
            <a:chOff x="1828800" y="3352680"/>
            <a:chExt cx="6629400" cy="1145520"/>
          </a:xfrm>
        </p:grpSpPr>
        <p:sp>
          <p:nvSpPr>
            <p:cNvPr id="192" name=""/>
            <p:cNvSpPr/>
            <p:nvPr/>
          </p:nvSpPr>
          <p:spPr>
            <a:xfrm>
              <a:off x="1828800" y="40384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cc"/>
                  </a:solidFill>
                  <a:latin typeface="Arial"/>
                </a:rPr>
                <a:t>(AB</a:t>
              </a:r>
              <a:r>
                <a:rPr b="0" lang="pt-BR" sz="2400" spc="-1" strike="noStrike" baseline="30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0" lang="pt-BR" sz="2400" spc="-1" strike="noStrike">
                  <a:solidFill>
                    <a:srgbClr val="ffffcc"/>
                  </a:solidFill>
                  <a:latin typeface="Arial"/>
                </a:rPr>
                <a:t>C)(BCD)=AC</a:t>
              </a:r>
              <a:r>
                <a:rPr b="0" lang="pt-BR" sz="2400" spc="-1" strike="noStrike" baseline="30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0" lang="pt-BR" sz="2400" spc="-1" strike="noStrike">
                  <a:solidFill>
                    <a:srgbClr val="ffffcc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4038480" y="3429000"/>
              <a:ext cx="0" cy="533520"/>
            </a:xfrm>
            <a:prstGeom prst="line">
              <a:avLst/>
            </a:prstGeom>
            <a:ln w="4428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57800" y="40384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cc"/>
                  </a:solidFill>
                  <a:latin typeface="Arial"/>
                </a:rPr>
                <a:t>(AB</a:t>
              </a:r>
              <a:r>
                <a:rPr b="0" lang="pt-BR" sz="2400" spc="-1" strike="noStrike" baseline="30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0" lang="pt-BR" sz="2400" spc="-1" strike="noStrike">
                  <a:solidFill>
                    <a:srgbClr val="ffffcc"/>
                  </a:solidFill>
                  <a:latin typeface="Arial"/>
                </a:rPr>
                <a:t>C)(BCD)</a:t>
              </a:r>
              <a:r>
                <a:rPr b="0" lang="pt-BR" sz="2400" spc="-1" strike="noStrike" baseline="30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0" lang="pt-BR" sz="2400" spc="-1" strike="noStrike">
                  <a:solidFill>
                    <a:srgbClr val="ffffcc"/>
                  </a:solidFill>
                  <a:latin typeface="Arial"/>
                </a:rPr>
                <a:t>=ABD</a:t>
              </a:r>
              <a:r>
                <a:rPr b="0" lang="pt-BR" sz="2400" spc="-1" strike="noStrike" baseline="30000">
                  <a:solidFill>
                    <a:srgbClr val="ffffcc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486400" y="3352680"/>
              <a:ext cx="0" cy="533520"/>
            </a:xfrm>
            <a:prstGeom prst="line">
              <a:avLst/>
            </a:prstGeom>
            <a:ln w="4428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Fatorial com níveis mistos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Experimentos onde cada fator ou conjunto de fatores apresenta um número de níveis diferent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Para exemplificar serão mostrados fatores com 2 e 3 níveis, e fatores com 2 e 4 nívei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Esse tipo de delineamento pode ser acomodado no delineamento 2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e geralmente ocorre quando o experimento possui fatores qualitativos e quantitativos e o fator qualitativo tem mais que 2 nívei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Fatores com 2 e 3 níveis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O delineamento pode ser obtido pela tabela de sina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Ex: Fatores    A com 2 níve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X com 3 níve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Para criar o fator X, faz-se uso de 2 fatores com 2 níve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228600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828800" y="4343400"/>
          <a:ext cx="5348160" cy="226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343400"/>
                    <a:ext cx="53481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Fatores com 2 e 3 níveis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2090880"/>
          <a:ext cx="8686800" cy="331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90880"/>
                    <a:ext cx="8686800" cy="33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Fatores com 2 e 3 níveis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Análise de variânc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219320" y="2819520"/>
          <a:ext cx="4205160" cy="270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19520"/>
                    <a:ext cx="4205160" cy="27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Fatores com 2 e 4 níveis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Ex: Fatores    A com 4 níve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C e D com 2 níveis ca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12952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676520" y="3276720"/>
          <a:ext cx="5348160" cy="226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276720"/>
                    <a:ext cx="53481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Fatores com 2 e 4 níveis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Análise de variânc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600200" y="2362320"/>
          <a:ext cx="6095880" cy="4064040"/>
        </p:xfrm>
        <a:graphic>
          <a:graphicData uri="http://schemas.openxmlformats.org/drawingml/2006/table">
            <a:tbl>
              <a:tblPr/>
              <a:tblGrid>
                <a:gridCol w="5181480"/>
                <a:gridCol w="914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SX=SSA+SSB+SS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S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S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S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SXC=SSAC+SSBC+SSAB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SXD=SSAD+SSBD+SSAB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SXCD=SSACD+SSBCD+SSAB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ffff66"/>
                </a:solidFill>
                <a:latin typeface="Times New Roman"/>
              </a:rPr>
              <a:t>Aula de hoje</a:t>
            </a:r>
            <a:endParaRPr b="0" i="1" lang="en-US" sz="48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2133720"/>
            <a:ext cx="630252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undimento no Fatorial 3</a:t>
            </a:r>
            <a:r>
              <a:rPr b="1" lang="pt-B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9 blo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undimento no Fatorial 3</a:t>
            </a:r>
            <a:r>
              <a:rPr b="1" lang="pt-B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3</a:t>
            </a:r>
            <a:r>
              <a:rPr b="1" lang="pt-BR" sz="24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locos, com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pt-BR" sz="2400" spc="-1" strike="noStrike" baseline="30000">
                <a:solidFill>
                  <a:srgbClr val="ffffff"/>
                </a:solidFill>
                <a:latin typeface="Times New Roman"/>
              </a:rPr>
              <a:t>k-p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bservações em 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epetição Fra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odelos Mi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66"/>
                </a:solidFill>
                <a:latin typeface="Times New Roman"/>
              </a:rPr>
              <a:t>Confundimento em Fatoriais </a:t>
            </a:r>
            <a:r>
              <a:rPr b="0" i="1" lang="pt-BR" sz="44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44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endParaRPr b="0" i="1" lang="en-US" sz="44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nfundimento em 9 bloc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971640" y="2852640"/>
                <a:ext cx="5503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71640" y="3573360"/>
                <a:ext cx="5543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755640" y="4508640"/>
            <a:ext cx="7918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Formação dos blocos: pares (L1,L2) igu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ffff66"/>
                </a:solidFill>
                <a:latin typeface="Times New Roman"/>
              </a:rPr>
              <a:t>Confundimento </a:t>
            </a:r>
            <a:r>
              <a:rPr b="0" i="1" lang="pt-BR" sz="48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48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r>
              <a:rPr b="0" i="1" lang="pt-BR" sz="4800" spc="-1" strike="noStrike">
                <a:solidFill>
                  <a:srgbClr val="ffff66"/>
                </a:solidFill>
                <a:latin typeface="Times New Roman"/>
              </a:rPr>
              <a:t> em 9 blocos</a:t>
            </a:r>
            <a:endParaRPr b="0" i="1" lang="en-US" sz="48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nstruindo os blocos de um fatorial 3</a:t>
            </a:r>
            <a:r>
              <a:rPr b="1" lang="pt-BR" sz="24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ontrastes de definição (CD): AB e AC</a:t>
            </a:r>
            <a:r>
              <a:rPr b="1" lang="pt-BR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omponentes de interação confundidos: AB, AC</a:t>
            </a:r>
            <a:r>
              <a:rPr b="1" lang="pt-BR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, AB</a:t>
            </a:r>
            <a:r>
              <a:rPr b="1" lang="pt-BR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 e B</a:t>
            </a:r>
            <a:r>
              <a:rPr b="1" lang="pt-BR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pt-BR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000)           L = 1*(0) + 1*(0) = 0 mod(3) = 0           L = 1*(0) + 2*(0) = 0 mod(3) = 0        (0,0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100)           L = 1*(1) + 1*(0) = 1 mod(3) = 1           L = 1*(1) + 2*(0) = 1 mod(3) = 1        (1,1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200)           L = 1*(2) + 1*(0) = 2 mod(3) = 2           L = 1*(2) + 2*(0) = 2 mod(3) = 2        (2,2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010)           L = 1*(0) + 1*(1) = 1 mod(3) = 1           L = 1*(0) + 2*(0) = 0 mod(3) = 0        (1,0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.                       .                                                            .                                                       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.                       .                                                            .                                                       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.                       .                                                            .                                                       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222)           L = 1*(2) + 1*(2) = 4 mod(3) = 1           L = 1*(2) + 2*(2) = 6 mod(3) = 0        (1,0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619280" y="3500280"/>
                <a:ext cx="25210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82692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609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50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45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43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148360" y="3500280"/>
                <a:ext cx="25192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ffff66"/>
                </a:solidFill>
                <a:latin typeface="Times New Roman"/>
              </a:rPr>
              <a:t>Confundimento </a:t>
            </a:r>
            <a:r>
              <a:rPr b="0" i="1" lang="pt-BR" sz="48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48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r>
              <a:rPr b="0" i="1" lang="pt-BR" sz="4800" spc="-1" strike="noStrike">
                <a:solidFill>
                  <a:srgbClr val="ffff66"/>
                </a:solidFill>
                <a:latin typeface="Times New Roman"/>
              </a:rPr>
              <a:t> em 9 blocos</a:t>
            </a:r>
            <a:endParaRPr b="0" i="1" lang="en-US" sz="48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1374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2205000"/>
            <a:ext cx="79200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cc99"/>
                </a:solidFill>
                <a:latin typeface="Times New Roman"/>
              </a:rPr>
              <a:t>(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56000" y="2205000"/>
            <a:ext cx="79200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cc99"/>
                </a:solidFill>
                <a:latin typeface="Times New Roman"/>
              </a:rPr>
              <a:t>(0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4000" y="4292640"/>
            <a:ext cx="79236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cc99"/>
                </a:solidFill>
                <a:latin typeface="Times New Roman"/>
              </a:rPr>
              <a:t>(2,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19280" y="4292640"/>
            <a:ext cx="79200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cc99"/>
                </a:solidFill>
                <a:latin typeface="Times New Roman"/>
              </a:rPr>
              <a:t>(1,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4292640"/>
            <a:ext cx="71892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cc99"/>
                </a:solidFill>
                <a:latin typeface="Times New Roman"/>
              </a:rPr>
              <a:t>(2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4292640"/>
            <a:ext cx="79200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cc99"/>
                </a:solidFill>
                <a:latin typeface="Times New Roman"/>
              </a:rPr>
              <a:t>(2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11640" y="2205000"/>
            <a:ext cx="79200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cc99"/>
                </a:solidFill>
                <a:latin typeface="Times New Roman"/>
              </a:rPr>
              <a:t>(0,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40360" y="2205000"/>
            <a:ext cx="79236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cc99"/>
                </a:solidFill>
                <a:latin typeface="Times New Roman"/>
              </a:rPr>
              <a:t>(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2205000"/>
            <a:ext cx="79200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cc99"/>
                </a:solidFill>
                <a:latin typeface="Times New Roman"/>
              </a:rPr>
              <a:t>(1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66"/>
                </a:solidFill>
                <a:latin typeface="Times New Roman"/>
              </a:rPr>
              <a:t>Confundimento 3</a:t>
            </a:r>
            <a:r>
              <a:rPr b="0" i="1" lang="pt-BR" sz="4400" spc="-1" strike="noStrike" baseline="30000">
                <a:solidFill>
                  <a:srgbClr val="ffff66"/>
                </a:solidFill>
                <a:latin typeface="Times New Roman"/>
              </a:rPr>
              <a:t>k</a:t>
            </a:r>
            <a:r>
              <a:rPr b="0" i="1" lang="pt-BR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pt-BR" sz="4400" spc="-1" strike="noStrike">
                <a:solidFill>
                  <a:srgbClr val="ffff66"/>
                </a:solidFill>
                <a:latin typeface="Times New Roman"/>
              </a:rPr>
              <a:t>em 3</a:t>
            </a:r>
            <a:r>
              <a:rPr b="0" i="1" lang="pt-BR" sz="4400" spc="-1" strike="noStrike" baseline="30000">
                <a:solidFill>
                  <a:srgbClr val="ffff66"/>
                </a:solidFill>
                <a:latin typeface="Times New Roman"/>
              </a:rPr>
              <a:t>p </a:t>
            </a:r>
            <a:r>
              <a:rPr b="0" i="1" lang="pt-BR" sz="4400" spc="-1" strike="noStrike">
                <a:solidFill>
                  <a:srgbClr val="ffff66"/>
                </a:solidFill>
                <a:latin typeface="Times New Roman"/>
              </a:rPr>
              <a:t>blocos</a:t>
            </a:r>
            <a:endParaRPr b="0" i="1" lang="en-US" sz="44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1374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91628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da bloco será formado por 3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k-p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observações, utilizando-se 3 definidores de contrastes para formar os blocos e confundindo outros (3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– 2p – 1)/2 efeitos automat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XEMPLO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sidere um planejamento 3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onde utilizar-se-á 3 componentes de interação para gerar os blocos, logo p=3. Teremos então 3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27 blocos, com 3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6-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= 27 observações em cada bloco. Neste caso, juntamente com as três interações utilizadas como definidoras de contrastes, estaremos confundindo out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3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– 2(3) – 1)/2 = 10 efeitos de tratamentos. Resumindo: Este planejamento requer 729 observações arranjadas em 27 blocos com 27 observações em cada 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Repetição Fracionada –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Us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úmero grande de fatores a ser estud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tapas iniciais da pesqu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ão se tem recurso suficiente para realizar o experimento compl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Motiv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terações de muitos fatores são difíceis de interpretar e em geral são não signific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aticamente a mesma informação é obtida com o fracionamento do experi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Repetição Fracionada –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-1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Construçã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colhe-se arbitrariamente o contraste de definição (I), dado por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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K</a:t>
            </a:r>
            <a:r>
              <a:rPr b="0" lang="pt-BR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 obtêm-se os blocos através d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+...+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 u (mod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n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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o expoente do i-ésimo fator do contraste de defini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o nível do i-ésimo fator do trat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Repetição Fracionada –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-1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Exemplo de Fatorial 3</a:t>
            </a:r>
            <a:r>
              <a:rPr b="0" lang="pt-BR" sz="2800" spc="-1" strike="noStrike" baseline="30000">
                <a:solidFill>
                  <a:srgbClr val="ffffcc"/>
                </a:solidFill>
                <a:latin typeface="Arial"/>
              </a:rPr>
              <a:t>3-1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colhe-se arbitrariamente um contraste de definição: ABC, AB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, ABC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ou </a:t>
            </a:r>
            <a:r>
              <a:rPr b="1" i="1" lang="pt-BR" sz="2400" spc="-1" strike="noStrike" u="sng">
                <a:solidFill>
                  <a:srgbClr val="ffffff"/>
                </a:solidFill>
                <a:uFillTx/>
                <a:latin typeface="Arial"/>
              </a:rPr>
              <a:t>AB</a:t>
            </a:r>
            <a:r>
              <a:rPr b="1" i="1" lang="pt-BR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1" i="1" lang="pt-BR" sz="24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i="1" lang="pt-BR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 isso obtêm-se 3 blocos através de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+2x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+2x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 u (mod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4343400"/>
          <a:ext cx="8548560" cy="148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343400"/>
                    <a:ext cx="854856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01:34:54Z</dcterms:created>
  <dc:creator>Pedro</dc:creator>
  <dc:description/>
  <dc:language>en-US</dc:language>
  <cp:lastModifiedBy>Nae6</cp:lastModifiedBy>
  <dcterms:modified xsi:type="dcterms:W3CDTF">2005-10-26T12:31:33Z</dcterms:modified>
  <cp:revision>71</cp:revision>
  <dc:subject/>
  <dc:title>Projetos fatoriais com fatores com mais de 2 níveis</dc:title>
</cp:coreProperties>
</file>