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A33-785E-4A54-86AE-947128C1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6F2-302D-481B-819A-7D312CC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CD5-C6EE-48E7-85FD-77CBD2E8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F01-8C6D-4303-B65B-1D350E66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6B4-0E8A-4618-8A38-4ADD854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185-20A0-4CEC-9FC2-2633C45D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4AB-2745-415B-8022-8FCD5B8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912-EB3C-4B81-9B22-94DFE6F5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92B-2187-4D3C-9826-2BD2C0E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20B-1D9C-4A93-98F4-E44F015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DBC-D5E3-478B-B4CC-6605E3D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99A-4AD2-4306-BBE1-11117E4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9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842-921C-471D-8D3E-51BD0555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6360" y="2060640"/>
            <a:ext cx="3200400" cy="2636280"/>
            <a:chOff x="2916360" y="2060640"/>
            <a:chExt cx="3200400" cy="2636280"/>
          </a:xfrm>
        </p:grpSpPr>
        <p:sp>
          <p:nvSpPr>
            <p:cNvPr id="43" name=""/>
            <p:cNvSpPr/>
            <p:nvPr/>
          </p:nvSpPr>
          <p:spPr>
            <a:xfrm>
              <a:off x="4177080" y="4268520"/>
              <a:ext cx="4251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16360" y="3203280"/>
              <a:ext cx="354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59560" y="3965400"/>
              <a:ext cx="432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16400" y="2765160"/>
              <a:ext cx="1611360" cy="139212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416400" y="2133000"/>
              <a:ext cx="102564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027760" y="2133000"/>
              <a:ext cx="102708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027760" y="3523680"/>
              <a:ext cx="1027080" cy="634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416400" y="3523680"/>
              <a:ext cx="1025640" cy="634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42040" y="2133360"/>
              <a:ext cx="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70480" y="35416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42040" y="2133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051960" y="2133360"/>
              <a:ext cx="288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62400" y="407808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62400" y="26874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86600" y="20793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2560" y="20606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8000" y="34509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65840" y="40575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72200" y="3450960"/>
              <a:ext cx="14760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37400" y="27144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69160" y="40971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70880" y="33573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69160" y="270828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68880" y="33573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68920" y="23382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70840" y="243036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0920" y="372744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69000" y="372744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8960" y="280188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680" y="344952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0960" y="280188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0600" y="206064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42200" y="2454120"/>
              <a:ext cx="144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965760" y="2395440"/>
              <a:ext cx="1800" cy="1391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53040" y="273204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178600" y="213012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9760" y="38192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45280" y="28828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56400" y="2442960"/>
              <a:ext cx="16128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7120" y="34383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92920" y="2157120"/>
              <a:ext cx="102528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229280" y="3449520"/>
              <a:ext cx="1041480" cy="693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429360" y="2885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429360" y="2885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992840" y="2874960"/>
              <a:ext cx="102564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68920" y="3127320"/>
              <a:ext cx="15084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4360" y="2825640"/>
              <a:ext cx="150840" cy="1281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5440" y="3752640"/>
              <a:ext cx="1490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99080" y="2366640"/>
              <a:ext cx="1479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86440" y="33858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63000" y="309708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254840" y="2893320"/>
              <a:ext cx="915840" cy="579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70640" y="309060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9680" y="31827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5157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d9ff"/>
                </a:solidFill>
                <a:latin typeface="Times New Roman"/>
              </a:rPr>
              <a:t>Juscelino Zemiacki</a:t>
            </a:r>
            <a:br>
              <a:rPr sz="2800"/>
            </a:br>
            <a:r>
              <a:rPr b="0" i="1" lang="pt-BR" sz="2800" spc="-1" strike="noStrike">
                <a:solidFill>
                  <a:srgbClr val="ffd9ff"/>
                </a:solidFill>
                <a:latin typeface="Times New Roman"/>
              </a:rPr>
              <a:t>Patrícia Ueda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78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lgoritmo de Yates -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105520"/>
            <a:ext cx="4038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Times New Roman"/>
              </a:rPr>
              <a:t>(1º valor) + (2º valor) + (3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Times New Roman"/>
              </a:rPr>
              <a:t>(3º valor) – (1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(1º valor) – 2* (2º valor) + (3º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20" y="914400"/>
            <a:ext cx="8915400" cy="3902040"/>
            <a:chOff x="76320" y="914400"/>
            <a:chExt cx="8915400" cy="3902040"/>
          </a:xfrm>
        </p:grpSpPr>
        <p:graphicFrame>
          <p:nvGraphicFramePr>
            <p:cNvPr id="223" name=""/>
            <p:cNvGraphicFramePr/>
            <p:nvPr/>
          </p:nvGraphicFramePr>
          <p:xfrm>
            <a:off x="76320" y="914400"/>
            <a:ext cx="8915400" cy="390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14400"/>
                      <a:ext cx="8915400" cy="39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2819520" y="1219320"/>
              <a:ext cx="685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581280"/>
              <a:ext cx="685800" cy="381240"/>
            </a:xfrm>
            <a:prstGeom prst="ellipse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2362320"/>
              <a:ext cx="685800" cy="380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952880" y="5029200"/>
            <a:ext cx="3962520" cy="1568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sor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: nº fa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: nº fatores – nº termos lineares no efe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Proje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3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99"/>
                </a:solidFill>
                <a:latin typeface="Arial"/>
              </a:rPr>
              <a:t>Exemplo: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Uma máquina é usada para encher galões de 5 litros de um refrigerante. Busca-se reduzir a perda </a:t>
            </a:r>
            <a:r>
              <a:rPr b="0" lang="pt-BR" sz="2800" spc="-1" strike="noStrike">
                <a:solidFill>
                  <a:srgbClr val="ff6699"/>
                </a:solidFill>
                <a:latin typeface="Arial"/>
              </a:rPr>
              <a:t>y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devida a espuma no processo de enchimento, que pode ser afetada pelos fator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A) boc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, 2, 3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B) velocidade do enchimen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00, 120 e 140 RPM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) pressão na operaç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6699"/>
                </a:solidFill>
                <a:latin typeface="Arial"/>
              </a:rPr>
              <a:t>(10, 15 e 20 p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62720" y="457200"/>
            <a:ext cx="2437920" cy="1980720"/>
            <a:chOff x="5562720" y="457200"/>
            <a:chExt cx="2437920" cy="1980720"/>
          </a:xfrm>
        </p:grpSpPr>
        <p:sp>
          <p:nvSpPr>
            <p:cNvPr id="232" name=""/>
            <p:cNvSpPr/>
            <p:nvPr/>
          </p:nvSpPr>
          <p:spPr>
            <a:xfrm>
              <a:off x="6523200" y="2116080"/>
              <a:ext cx="32364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2720" y="1315800"/>
              <a:ext cx="2696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52520" y="1888200"/>
              <a:ext cx="329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986760"/>
              <a:ext cx="1227600" cy="104616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943600" y="511920"/>
              <a:ext cx="781200" cy="47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171200" y="511920"/>
              <a:ext cx="782280" cy="47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171200" y="1556280"/>
              <a:ext cx="782280" cy="4770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943600" y="1556280"/>
              <a:ext cx="781200" cy="4770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24800" y="511920"/>
              <a:ext cx="0" cy="1044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46760" y="156996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4800" y="511920"/>
              <a:ext cx="12286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951680" y="511920"/>
              <a:ext cx="216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02200" y="197316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2200" y="92808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82680" y="47124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7560" y="45720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150192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4040" y="195768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1880" y="1501920"/>
              <a:ext cx="11232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2440" y="94860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17080" y="1987200"/>
              <a:ext cx="1108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28000" y="1431360"/>
              <a:ext cx="1108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7080" y="943920"/>
              <a:ext cx="110880" cy="964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240" y="143136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88120" y="66600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2560" y="735120"/>
              <a:ext cx="110880" cy="964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08880" y="1709640"/>
              <a:ext cx="110880" cy="9504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64440" y="1709640"/>
              <a:ext cx="1112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69360" y="1014120"/>
              <a:ext cx="1112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9920" y="1500840"/>
              <a:ext cx="11124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89760" y="1014120"/>
              <a:ext cx="110880" cy="9504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03960" y="457200"/>
              <a:ext cx="11124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563240" y="75276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361920" y="708480"/>
              <a:ext cx="1080" cy="10458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80800" y="96156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286040" y="509400"/>
              <a:ext cx="1080" cy="10447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03320" y="177840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7320" y="107496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5080" y="744480"/>
              <a:ext cx="12286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2720" y="149220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535080" y="529920"/>
              <a:ext cx="780840" cy="474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562800" y="1500480"/>
              <a:ext cx="793440" cy="520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953320" y="1077120"/>
              <a:ext cx="780840" cy="475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953320" y="1077120"/>
              <a:ext cx="780840" cy="4759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144560" y="1069200"/>
              <a:ext cx="781200" cy="474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8120" y="1258560"/>
              <a:ext cx="114840" cy="9504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1960" y="1032120"/>
              <a:ext cx="114840" cy="9648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79960" y="1728360"/>
              <a:ext cx="11340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20640" y="687240"/>
              <a:ext cx="11268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30040" y="145296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02760" y="1235880"/>
              <a:ext cx="112320" cy="954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582240" y="1082880"/>
              <a:ext cx="697680" cy="435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99040" y="1231200"/>
              <a:ext cx="111240" cy="954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7000" y="1300320"/>
              <a:ext cx="122760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Ex. de projeto fatorial 3</a:t>
            </a:r>
            <a:r>
              <a:rPr b="0" i="1" lang="pt-BR" sz="36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981080"/>
          <a:ext cx="8964360" cy="4327200"/>
        </p:xfrm>
        <a:graphic>
          <a:graphicData uri="http://schemas.openxmlformats.org/drawingml/2006/table">
            <a:tbl>
              <a:tblPr/>
              <a:tblGrid>
                <a:gridCol w="812880"/>
                <a:gridCol w="904320"/>
                <a:gridCol w="906480"/>
                <a:gridCol w="906480"/>
                <a:gridCol w="904320"/>
                <a:gridCol w="906480"/>
                <a:gridCol w="906480"/>
                <a:gridCol w="906120"/>
                <a:gridCol w="904320"/>
                <a:gridCol w="906480"/>
              </a:tblGrid>
              <a:tr h="479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ample 10-1; Montgomery, pag. 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0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1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2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0 (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 (1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0 (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1 (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2 (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Ex. de projeto fatorial 3</a:t>
            </a:r>
            <a:r>
              <a:rPr b="0" i="1" lang="pt-BR" sz="36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A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B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elocidade do enchim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y  (per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(C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ffd9ff"/>
                </a:solidFill>
                <a:latin typeface="Arial"/>
              </a:rPr>
              <a:t>ressão na operação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76212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1447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47640" y="2565360"/>
            <a:ext cx="5865840" cy="4041000"/>
            <a:chOff x="1547640" y="2565360"/>
            <a:chExt cx="5865840" cy="4041000"/>
          </a:xfrm>
        </p:grpSpPr>
        <p:sp>
          <p:nvSpPr>
            <p:cNvPr id="293" name=""/>
            <p:cNvSpPr/>
            <p:nvPr/>
          </p:nvSpPr>
          <p:spPr>
            <a:xfrm>
              <a:off x="3605040" y="5968800"/>
              <a:ext cx="3049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85720" y="264132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71920" y="3784320"/>
              <a:ext cx="4636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22480" y="3587400"/>
              <a:ext cx="1725480" cy="15696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922480" y="2876040"/>
              <a:ext cx="1098360" cy="713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647960" y="2876040"/>
              <a:ext cx="1100160" cy="713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647960" y="4443120"/>
              <a:ext cx="1100160" cy="715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922480" y="4443120"/>
              <a:ext cx="1098360" cy="715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0840" y="2876400"/>
              <a:ext cx="0" cy="1566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51080" y="4463640"/>
              <a:ext cx="172584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20840" y="2876400"/>
              <a:ext cx="17272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744880" y="2876040"/>
              <a:ext cx="324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3800" y="506700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63800" y="350028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0720" y="281592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84680" y="279360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44800" y="436068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81360" y="504468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46320" y="4360680"/>
              <a:ext cx="15732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1120" y="353016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27440" y="508932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86040" y="425592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352404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9920" y="425592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06680" y="3106440"/>
              <a:ext cx="1555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4800" y="321120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22800" y="4671720"/>
              <a:ext cx="156960" cy="14400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12880" y="4671720"/>
              <a:ext cx="157320" cy="1440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41640" y="3628800"/>
              <a:ext cx="15696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4358880"/>
              <a:ext cx="156960" cy="1425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7760" y="362880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4040" y="2793600"/>
              <a:ext cx="15732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198760" y="3237840"/>
              <a:ext cx="180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09640" y="3171600"/>
              <a:ext cx="1800" cy="15681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817800" y="3550680"/>
              <a:ext cx="1440" cy="1566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809960" y="2872800"/>
              <a:ext cx="1440" cy="1566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8680" y="4776480"/>
              <a:ext cx="172548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24080" y="3720960"/>
              <a:ext cx="172584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0280" y="3225600"/>
              <a:ext cx="17272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19320" y="4346280"/>
              <a:ext cx="172548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52640" y="2903400"/>
              <a:ext cx="1100160" cy="710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792240" y="4358520"/>
              <a:ext cx="1116000" cy="7822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935080" y="3723840"/>
              <a:ext cx="1098720" cy="714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35080" y="3723840"/>
              <a:ext cx="1098720" cy="714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609800" y="3710880"/>
              <a:ext cx="1100160" cy="712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06680" y="3995280"/>
              <a:ext cx="162000" cy="144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19600" y="3655800"/>
              <a:ext cx="161640" cy="1458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8280" y="4700160"/>
              <a:ext cx="160560" cy="144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95520" y="313992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46160" y="4287600"/>
              <a:ext cx="1587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14880" y="3962160"/>
              <a:ext cx="156960" cy="1425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19240" y="3733200"/>
              <a:ext cx="981360" cy="651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5280" y="3954240"/>
              <a:ext cx="157320" cy="14400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0680" y="4059000"/>
              <a:ext cx="172692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292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8136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19440" y="53082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d9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5720" y="3403440"/>
              <a:ext cx="38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2040" y="408924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62040" y="485100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r>
                <a:rPr b="1" lang="pt-BR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32280" y="4370040"/>
              <a:ext cx="380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57520" y="469872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00320" y="5003640"/>
              <a:ext cx="228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974560" y="4179600"/>
              <a:ext cx="268920" cy="269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38360" y="302220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3960" y="256536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47640" y="340344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47640" y="408924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47640" y="485100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9920" y="3022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76840" y="469872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19640" y="515592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6120" y="5536800"/>
              <a:ext cx="53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3643200" y="4965120"/>
              <a:ext cx="228240" cy="182880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4840" y="363204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4840" y="431784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4840" y="5079600"/>
              <a:ext cx="30492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53760" y="469044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42640" y="503676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85440" y="5341320"/>
              <a:ext cx="344520" cy="16200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34040" y="4012920"/>
              <a:ext cx="3794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823800" y="4449240"/>
              <a:ext cx="268920" cy="26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985560" y="6222600"/>
              <a:ext cx="1143000" cy="228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02000" y="6146640"/>
              <a:ext cx="21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66"/>
                  </a:solidFill>
                  <a:latin typeface="Times New Roman"/>
                </a:rPr>
                <a:t>fator qualit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66"/>
                </a:solidFill>
                <a:latin typeface="Times New Roman"/>
              </a:rPr>
              <a:t>Confundimento de Fatoriais </a:t>
            </a:r>
            <a:r>
              <a:rPr b="0" i="1" lang="pt-BR" sz="36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36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3600" spc="-1" strike="noStrike">
                <a:solidFill>
                  <a:srgbClr val="ffd9ff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visand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FUNDIMENTO: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écnica empregada na organização de delineamentos para experimentos fatoriais, possibilitando obter maior precisão nas comparações mais importantes, pelo sacrifício de outras, menos relev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FINI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° de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03280" y="2133720"/>
            <a:ext cx="630252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em Fatoriais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187280" y="2637000"/>
                <a:ext cx="63374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684360" y="3573360"/>
            <a:ext cx="8064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o nível do i-ésimo fator que aparece na combinação de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o coeficiente do i-ésimo fator no efeito a ser confu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a o sistema 3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tem-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= 0, 1 ou 2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    x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= 0 (baixo), 1 (intermediário) ou 2 (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ção dos blocos:  valor de  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L(mod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0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ITUAÇÃO PROBLEMA: </a:t>
            </a:r>
            <a:r>
              <a:rPr b="0" i="1" lang="pt-B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(Sabrina e Marília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 1 repetição e cada combinação de tratamentos (9) requer uma quantidade de matéria-prima, mas cada lote de matéria-prima só é suficiente para testar 3 combinações de tratament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 lotes serão necessários para realizar o experimen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 os lotes de matéria-prima forem considerados como blocos, devemos classificar 3 das 9 combinações de tratamentos como pertencentes a cada blo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67280" y="4221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88000" y="414972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4869000"/>
            <a:ext cx="14616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9564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88000" y="551664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95640" y="4869000"/>
            <a:ext cx="14616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564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859280" y="4220640"/>
            <a:ext cx="1800" cy="1390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4941720"/>
            <a:ext cx="161136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80000" y="393372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933720"/>
            <a:ext cx="3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472428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08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16360" y="393372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600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59500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4724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137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onentes de interação: AB   ou AB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0)                 L = 1*(0) + 1*(0) = 0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1)                 L = 1*(0) + 1*(1) = 1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02)                 L = 1*(0) + 1*(2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0)                 L = 1*(1) + 1*(0) = 1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1)                 L = 1*(1) + 1*(1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12)                 L = 1*(1) + 1*(2) = 3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0)                 L = 1*(2) + 1*(0) = 2 mod(3) = 2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1)                 L = 1*(2) + 1*(1) = 3 mod(3) = 0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(22)                 L = 1*(2) + 1*(2) = 4 mod(3) =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340000" y="2997360"/>
                <a:ext cx="21621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8728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609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5805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501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8728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87280" y="42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5589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7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87280" y="450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4788000" y="2276280"/>
            <a:ext cx="502920" cy="5032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076640"/>
            <a:ext cx="64764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88000" y="4437000"/>
            <a:ext cx="64800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24720" y="4724280"/>
            <a:ext cx="647640" cy="134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cc99"/>
                </a:solidFill>
                <a:latin typeface="Times New Roman"/>
              </a:rPr>
              <a:t>Bloco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pt-BR" sz="2400" spc="-1" strike="noStrike" baseline="30000">
                <a:solidFill>
                  <a:srgbClr val="ffffcc"/>
                </a:solidFill>
                <a:latin typeface="Arial"/>
              </a:rPr>
              <a:t>k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k fatores com 3 níveis ca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ator qualitativ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íveis: baixo (0), intermediário (1), alto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ator quantitativ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íveis: baixo (-1), intermediário (0), alto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692280"/>
            <a:ext cx="7772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br>
              <a:rPr sz="4000"/>
            </a:b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No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0769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67280" y="4221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88000" y="4149720"/>
            <a:ext cx="145800" cy="127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8800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80000" y="4869000"/>
            <a:ext cx="146160" cy="1267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80000" y="4149720"/>
            <a:ext cx="14616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95640" y="41497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5516640"/>
            <a:ext cx="14580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80000" y="55166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95640" y="4869000"/>
            <a:ext cx="146160" cy="126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95640" y="5516640"/>
            <a:ext cx="146160" cy="127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859280" y="4292640"/>
            <a:ext cx="0" cy="1319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67280" y="4941720"/>
            <a:ext cx="161136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36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566100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80000" y="386064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0" y="3933720"/>
            <a:ext cx="3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32360" y="4581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08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16360" y="386064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24360" y="4797360"/>
            <a:ext cx="3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16360" y="59500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4724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4221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loc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2720" y="4292640"/>
            <a:ext cx="144360" cy="142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32720" y="4581360"/>
            <a:ext cx="145800" cy="127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2720" y="4869000"/>
            <a:ext cx="1458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4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4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4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4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 para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ntes do confundimento             Após confundimento A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050920" y="3284640"/>
          <a:ext cx="23716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84640"/>
                    <a:ext cx="23716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5651640" y="3357720"/>
          <a:ext cx="2592360" cy="24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357720"/>
                    <a:ext cx="259236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onfundimento </a:t>
            </a: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 em 3 blocos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onstruindo os blocos de um fatorial 3</a:t>
            </a:r>
            <a:r>
              <a:rPr b="1" lang="pt-BR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onente de interação e definição de contras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771640" y="328464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771640" y="4221000"/>
                <a:ext cx="20876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771640" y="508464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771640" y="595008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66"/>
                </a:solidFill>
                <a:latin typeface="Times New Roman"/>
              </a:rPr>
              <a:t>Cenas do Próximo capítulo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03280" y="2133720"/>
            <a:ext cx="63025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9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Confundimento no Fatorial 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3</a:t>
            </a:r>
            <a:r>
              <a:rPr b="1" lang="pt-BR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locos, co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pt-BR" sz="2400" spc="-1" strike="noStrike" baseline="30000">
                <a:solidFill>
                  <a:srgbClr val="ffffff"/>
                </a:solidFill>
                <a:latin typeface="Times New Roman"/>
              </a:rPr>
              <a:t>k-p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ões em 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* Repetição Fra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219640" y="2276640"/>
            <a:ext cx="3200400" cy="2636280"/>
            <a:chOff x="5219640" y="2276640"/>
            <a:chExt cx="3200400" cy="2636280"/>
          </a:xfrm>
        </p:grpSpPr>
        <p:sp>
          <p:nvSpPr>
            <p:cNvPr id="101" name=""/>
            <p:cNvSpPr/>
            <p:nvPr/>
          </p:nvSpPr>
          <p:spPr>
            <a:xfrm>
              <a:off x="6480360" y="4484520"/>
              <a:ext cx="4251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9640" y="3419280"/>
              <a:ext cx="354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62840" y="4181400"/>
              <a:ext cx="432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9680" y="2981160"/>
              <a:ext cx="1611360" cy="139212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719680" y="2349000"/>
              <a:ext cx="102564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331040" y="2349000"/>
              <a:ext cx="1027080" cy="6332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31040" y="3739680"/>
              <a:ext cx="1027080" cy="634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719680" y="3739680"/>
              <a:ext cx="1025640" cy="6346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5320" y="2349360"/>
              <a:ext cx="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73760" y="37576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45320" y="2349360"/>
              <a:ext cx="16128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55240" y="2349360"/>
              <a:ext cx="288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65680" y="429408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5680" y="29034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9880" y="22953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05840" y="227664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61280" y="36669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69120" y="427356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75480" y="3666960"/>
              <a:ext cx="14760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40680" y="29304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2440" y="43131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4160" y="3573360"/>
              <a:ext cx="1458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2440" y="292428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2160" y="357336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255420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74120" y="2646360"/>
              <a:ext cx="145800" cy="1281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4200" y="394344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2280" y="394344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72240" y="3017880"/>
              <a:ext cx="14616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3960" y="366552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74240" y="3017880"/>
              <a:ext cx="145800" cy="12636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73880" y="2276640"/>
              <a:ext cx="1461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845480" y="2670120"/>
              <a:ext cx="144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269040" y="2611440"/>
              <a:ext cx="1800" cy="1391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56320" y="294804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481880" y="2346120"/>
              <a:ext cx="1800" cy="1390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3040" y="403524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48560" y="309888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9680" y="2658960"/>
              <a:ext cx="161280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10400" y="36543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96200" y="2373120"/>
              <a:ext cx="102528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32560" y="3665520"/>
              <a:ext cx="1041480" cy="6933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732640" y="3101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732640" y="3101400"/>
              <a:ext cx="1025280" cy="633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96120" y="3090960"/>
              <a:ext cx="1025640" cy="63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2200" y="3343320"/>
              <a:ext cx="150840" cy="1263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97640" y="3041640"/>
              <a:ext cx="150840" cy="12816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8720" y="3968640"/>
              <a:ext cx="14904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2360" y="2582640"/>
              <a:ext cx="14796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9720" y="36018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6280" y="331308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558120" y="3109320"/>
              <a:ext cx="915840" cy="5792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3920" y="3306600"/>
              <a:ext cx="146160" cy="126720"/>
            </a:xfrm>
            <a:prstGeom prst="ellipse">
              <a:avLst/>
            </a:prstGeom>
            <a:solidFill>
              <a:srgbClr val="cc3300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22960" y="3398760"/>
              <a:ext cx="1611360" cy="10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242040" y="486720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3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87280" y="2276640"/>
            <a:ext cx="2612880" cy="2917440"/>
            <a:chOff x="1187280" y="2276640"/>
            <a:chExt cx="2612880" cy="2917440"/>
          </a:xfrm>
        </p:grpSpPr>
        <p:sp>
          <p:nvSpPr>
            <p:cNvPr id="157" name=""/>
            <p:cNvSpPr/>
            <p:nvPr/>
          </p:nvSpPr>
          <p:spPr>
            <a:xfrm>
              <a:off x="2447640" y="4348080"/>
              <a:ext cx="425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87280" y="3282840"/>
              <a:ext cx="353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7320" y="2844720"/>
              <a:ext cx="1611360" cy="1392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3320" y="41576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33320" y="276696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6760" y="41371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7960" y="2793960"/>
              <a:ext cx="1476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9720" y="41767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1440" y="3436920"/>
              <a:ext cx="14580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9720" y="2787840"/>
              <a:ext cx="146160" cy="1285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9440" y="34369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23960" y="2811240"/>
              <a:ext cx="1440" cy="1390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7680" y="3517920"/>
              <a:ext cx="161136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7000" y="3465720"/>
              <a:ext cx="147600" cy="126720"/>
            </a:xfrm>
            <a:prstGeom prst="ellipse">
              <a:avLst/>
            </a:prstGeom>
            <a:solidFill>
              <a:srgbClr val="00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72640" y="467352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Times New Roman"/>
                </a:rPr>
                <a:t>Projeto 3</a:t>
              </a:r>
              <a:r>
                <a:rPr b="0" lang="pt-BR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8000" y="2276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986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72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4920" y="2616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1600" y="33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41600" y="398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84360" y="765000"/>
            <a:ext cx="7772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Usados quand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stir fatores qualitativos com mais de 2 níve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stir fatores quantitativos em que se suspeita haver efeitos não line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692280"/>
            <a:ext cx="7772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Delineamento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d9ff"/>
                </a:solidFill>
                <a:latin typeface="Times New Roman"/>
              </a:rPr>
              <a:t>O projeto 3</a:t>
            </a:r>
            <a:r>
              <a:rPr b="0" i="1" lang="pt-BR" sz="48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8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onte de variaç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graus de liberdad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B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ara fatores quantitativos pode-se considerar os efeitos lineares (L) e quadráticos (Q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70800" y="2376360"/>
            <a:ext cx="42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311120"/>
            <a:ext cx="3542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873000"/>
            <a:ext cx="1611360" cy="1392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6120" y="218592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56120" y="79524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9560" y="2165400"/>
            <a:ext cx="1476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31120" y="822240"/>
            <a:ext cx="1476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62880" y="220500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4600" y="1465200"/>
            <a:ext cx="14580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62880" y="816120"/>
            <a:ext cx="145800" cy="128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2600" y="1465200"/>
            <a:ext cx="146160" cy="12708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46760" y="839520"/>
            <a:ext cx="1800" cy="1390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00840" y="1546200"/>
            <a:ext cx="161136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80160" y="1494000"/>
            <a:ext cx="147600" cy="1267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1160" y="30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21760" y="33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83520" y="33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88080" y="64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4760" y="133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760" y="201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8195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2767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648320"/>
            <a:ext cx="5486400" cy="0"/>
          </a:xfrm>
          <a:prstGeom prst="line">
            <a:avLst/>
          </a:prstGeom>
          <a:ln w="2844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nov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1616040"/>
          <a:ext cx="3886200" cy="4114800"/>
        </p:xfrm>
        <a:graphic>
          <a:graphicData uri="http://schemas.openxmlformats.org/drawingml/2006/table">
            <a:tbl>
              <a:tblPr/>
              <a:tblGrid>
                <a:gridCol w="990360"/>
                <a:gridCol w="1600200"/>
                <a:gridCol w="129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SQ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n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3</a:t>
                      </a:r>
                      <a:r>
                        <a:rPr b="0" lang="pt-BR" sz="20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 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715000" y="1600200"/>
                <a:ext cx="24638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257800" y="3886200"/>
            <a:ext cx="36576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: número de níveis do f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: número de repet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eficiente do contraste orto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Anova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90920" y="1905120"/>
          <a:ext cx="3886200" cy="2266920"/>
        </p:xfrm>
        <a:graphic>
          <a:graphicData uri="http://schemas.openxmlformats.org/drawingml/2006/table">
            <a:tbl>
              <a:tblPr/>
              <a:tblGrid>
                <a:gridCol w="1143000"/>
                <a:gridCol w="1676160"/>
                <a:gridCol w="1067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A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x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838080" y="4952880"/>
            <a:ext cx="769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trastes ortog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drados latinos ortog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Exemplo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69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00000" y="3429000"/>
          <a:ext cx="7459920" cy="30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429000"/>
                    <a:ext cx="745992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4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d9ff"/>
                </a:solidFill>
                <a:latin typeface="Times New Roman"/>
              </a:rPr>
              <a:t>Exemplo – Fatorial 3</a:t>
            </a:r>
            <a:r>
              <a:rPr b="0" i="1" lang="pt-BR" sz="4000" spc="-1" strike="noStrike" baseline="30000">
                <a:solidFill>
                  <a:srgbClr val="ffd9ff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ffd9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898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empo de vida de um determinado instrumento em uma máquina deve estar relacionada à velocidade de corte (minutos) e ao ângulo de uso (grau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2421000"/>
          <a:ext cx="7993080" cy="4176720"/>
        </p:xfrm>
        <a:graphic>
          <a:graphicData uri="http://schemas.openxmlformats.org/drawingml/2006/table">
            <a:tbl>
              <a:tblPr/>
              <a:tblGrid>
                <a:gridCol w="1333440"/>
                <a:gridCol w="1330560"/>
                <a:gridCol w="1333440"/>
                <a:gridCol w="1332000"/>
                <a:gridCol w="1330200"/>
                <a:gridCol w="133344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8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8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6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6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L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1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1,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B</a:t>
                      </a:r>
                      <a:r>
                        <a:rPr b="0" lang="pt-BR" sz="20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4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4,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1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1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,0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,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1:34:54Z</dcterms:created>
  <dc:creator>Pedro</dc:creator>
  <dc:description/>
  <dc:language>en-US</dc:language>
  <cp:lastModifiedBy>Juscelino</cp:lastModifiedBy>
  <dcterms:modified xsi:type="dcterms:W3CDTF">2005-10-26T11:17:20Z</dcterms:modified>
  <cp:revision>54</cp:revision>
  <dc:subject/>
  <dc:title>Projetos fatoriais com fatores com mais de 2 níveis</dc:title>
</cp:coreProperties>
</file>